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3.gif" ContentType="image/gif"/>
  <Override PartName="/ppt/media/image2.png" ContentType="image/png"/>
  <Override PartName="/ppt/media/image4.jpeg" ContentType="image/jpe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FBF9-963F-431E-8E32-44CDDACA7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130E-E022-4E1A-960A-5FD128B1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9F1F-39CD-40C4-BCD6-B427910A9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CC1D-1F77-44B9-8539-8C0811022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D318-1D60-45D2-86EA-1B171537D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BC5A-183A-425C-935D-829BA435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111A-FA78-486D-ACA9-B1EC0276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139C-5046-4E7E-A782-B1777E31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92E9-094B-4CAD-9703-B2C87180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FE66-9075-43B7-BF55-6E7C8BA4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FDBD-4F34-4C84-BDB7-5F9D9D86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842D-0A36-4D1A-BBD2-4A168993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DBC4-1D23-49D0-B766-BCA5B8E5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678D-4641-445A-B304-F5F118F4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A44B-B3A4-428F-8FCA-8401C842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3415-80B9-4CB6-A3C8-20825DAA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BD37-18DC-4862-92BF-394D0098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5467B-04F2-4982-AD6A-7B4F4243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097ED-7982-4CAD-8168-AB5BA9C6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E7AFC-99EB-4AE7-9E5A-09CF9714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3E990-2F00-4800-AE93-664FA62A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5FA30-2ED4-4B2D-ACB2-C8957E49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EC3F-87C4-40EE-BDBB-82C026B7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6905E-ED3C-49A1-853A-72A484E6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7294A-50D7-42E2-A1BA-C196B034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84ABC-B85E-47AF-9529-035EF5DB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1A907-5961-4111-BF85-76E0430C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E4928-E8A8-4EF0-836F-A1223B03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D64EA-3958-4FEB-BA32-A437FD589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3B02D-6E68-4587-922D-B495F9C4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2DEE5-21FF-45A6-9409-3E0863E2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6E7C7-8022-4087-B2F1-E7F6F314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9ECEA-C6EF-4914-BEC8-4961D5CE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3F63-D2FC-4972-AED2-B6E49890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A12E4-9E41-4B94-8EE8-3A435E46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5A90D-5C62-4789-87EC-8F5E693B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D7012-B30D-4994-B219-AC7234D0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97B12-A154-4E7E-AF50-380A26F9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355A8-0FD9-4609-9A1E-50386EE6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849E2-8318-4E75-B20F-2B6F5BCD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5A671-5DA2-4EC9-8FFC-99478E05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71345-94AB-4B72-8B68-F67FB31C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292C4-D075-4BD0-B146-576EE6399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432A64-BC6E-465D-98D0-3C45F2CFD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7FB5-AFD7-4370-9B4B-60C01E19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AD7211-C689-41A8-9D4B-3710DED6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BF094B-56D9-4688-9896-8F5BB149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87BBC6-B9A0-424B-81A4-00B5A8AD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B7FD16-B545-46E0-866F-7D5B2EC7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C491FF-BABB-4DCB-91C1-38E6782E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3EFDA1-5563-49AE-9C9E-9BBF68F2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3F7D1D-6BE3-45DB-8D02-E4279A1E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AB79F3-B6A7-489D-835C-88F6B2AD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7E38E5-A1C8-4F19-9FCD-67FD4FD7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0507E5-CDC9-469F-BFB3-692FAB2C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E7E0-4CF6-4A93-A94D-ACC1E15C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3E2846-52DC-49EF-8E4D-A34D29310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D9DF1-2F29-4ED9-B437-172500F49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AF649-8FF2-4D70-98D9-013569D9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0D06D-FA97-4996-AE8B-6B3C347D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F63CE-0FD3-4F49-98ED-8859BC03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62CC3-8C58-4226-BC04-3CCFC8D5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48AEF-A70D-4138-ABE5-EDC5C093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3C59F-B09E-49D7-83EC-9DFCB87B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EF2F2-3E9D-401D-AA89-C0A9E265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A9010-1D74-430B-BBA6-CA1DD482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632B-5395-48E7-BDB7-7AEB6BF1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62E54-4130-4599-83C4-75358428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2B8F7-6B0B-44BE-981E-BDA83E529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C10F7-EF3F-43D9-AC8B-34844F353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CE002-9940-475F-96C8-05507B8E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5D239-0D29-4B4C-9208-6E077BF1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2F725-A23A-4453-AABF-DFEC0C9B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8E522-3FB6-46F5-BD33-4AA3897A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19F8B-D7D6-45AB-8260-84B1523D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70CD7-476F-41F9-9AC9-07FA9496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F2A2F-0A24-437E-AD9E-91687F63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6128-5458-4F67-A026-4BA5F075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88874-32F5-4FF8-83E2-EA3EBB44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AF29C-21BF-4893-9A10-754F3CB9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6A4B0-9D72-4281-8538-04E6EF88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C2FF0-2B62-44F4-887B-8B1E41741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2CAC1-2F79-482A-9363-73CB8581C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1B3E-09A7-4EC6-AF12-C171FCA6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2150-B4D2-4EC7-B2EE-885A2101D2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50A1-1C9B-4855-A424-B9F12768E8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B734-D48A-406F-B1BC-E565A537CA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2CA0-7A88-462C-8220-A09187C48B5D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0F87-2CA1-4064-B146-4596253899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14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215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17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218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2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E2B1-FCA6-4711-8D15-F57004337B0A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65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266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68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269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71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3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DB96-8DA8-4421-A88A-DB25EE75FA05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55640" y="1268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47636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317" name="Picture 4" descr="int1"/>
          <p:cNvPicPr/>
          <p:nvPr/>
        </p:nvPicPr>
        <p:blipFill>
          <a:blip r:embed="rId1"/>
          <a:stretch/>
        </p:blipFill>
        <p:spPr>
          <a:xfrm>
            <a:off x="-1143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12"/>
          <p:cNvSpPr/>
          <p:nvPr/>
        </p:nvSpPr>
        <p:spPr>
          <a:xfrm>
            <a:off x="2124000" y="907920"/>
            <a:ext cx="5192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Обобщение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по теме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«Гидросфера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2" descr="Анимация: Океан"/>
          <p:cNvPicPr/>
          <p:nvPr/>
        </p:nvPicPr>
        <p:blipFill>
          <a:blip r:embed="rId1"/>
          <a:stretch/>
        </p:blipFill>
        <p:spPr>
          <a:xfrm>
            <a:off x="0" y="4076640"/>
            <a:ext cx="9144000" cy="278136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2916000" y="260280"/>
            <a:ext cx="3600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Как движется вода 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океан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Приливы, течения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волны, цун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Ответить вы сейчас должн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Как образуются он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- ветровые вол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- теч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- цунам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- прилив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4" name="Picture 5" descr="CAC5VG14"/>
          <p:cNvPicPr/>
          <p:nvPr/>
        </p:nvPicPr>
        <p:blipFill>
          <a:blip r:embed="rId2"/>
          <a:stretch/>
        </p:blipFill>
        <p:spPr>
          <a:xfrm>
            <a:off x="250920" y="189000"/>
            <a:ext cx="2493720" cy="38163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6" descr="i[62]"/>
          <p:cNvPicPr/>
          <p:nvPr/>
        </p:nvPicPr>
        <p:blipFill>
          <a:blip r:embed="rId3"/>
          <a:stretch/>
        </p:blipFill>
        <p:spPr>
          <a:xfrm>
            <a:off x="6372360" y="260280"/>
            <a:ext cx="2520720" cy="367344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13"/>
          <p:cNvSpPr/>
          <p:nvPr/>
        </p:nvSpPr>
        <p:spPr>
          <a:xfrm>
            <a:off x="5889960" y="3068640"/>
            <a:ext cx="111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Tahoma"/>
              </a:rPr>
              <a:t>(ветер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Rectangle 14"/>
          <p:cNvSpPr/>
          <p:nvPr/>
        </p:nvSpPr>
        <p:spPr>
          <a:xfrm>
            <a:off x="4663080" y="3429000"/>
            <a:ext cx="279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Tahoma"/>
              </a:rPr>
              <a:t>(постоянные ветр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Rectangle 15"/>
          <p:cNvSpPr/>
          <p:nvPr/>
        </p:nvSpPr>
        <p:spPr>
          <a:xfrm>
            <a:off x="4572000" y="3789360"/>
            <a:ext cx="42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Tahoma"/>
              </a:rPr>
              <a:t>(землетрясения в океане 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Rectangle 16"/>
          <p:cNvSpPr/>
          <p:nvPr/>
        </p:nvSpPr>
        <p:spPr>
          <a:xfrm>
            <a:off x="4583520" y="4149720"/>
            <a:ext cx="279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Tahoma"/>
              </a:rPr>
              <a:t>(притяжение лун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619280" y="4723920"/>
            <a:ext cx="61912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Назовите и покажите круп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течения на карте полушар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2050920" y="47628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Смотрим на карту Росс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Архангельск и Мурманск находи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И что мы видим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Мурманск - на север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Архангельск – южне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Но в Мурманске почему-то теплее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4864320" y="2421000"/>
            <a:ext cx="30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(рядом теплое течение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1692360" y="34290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А какие еще течения вы знаете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Rectangle 8"/>
          <p:cNvSpPr/>
          <p:nvPr/>
        </p:nvSpPr>
        <p:spPr>
          <a:xfrm>
            <a:off x="4949280" y="3789360"/>
            <a:ext cx="25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(холодные течени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Rectangle 9"/>
          <p:cNvSpPr/>
          <p:nvPr/>
        </p:nvSpPr>
        <p:spPr>
          <a:xfrm>
            <a:off x="2029320" y="2924280"/>
            <a:ext cx="344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Почему вы так решили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3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0"/>
          <p:cNvSpPr/>
          <p:nvPr/>
        </p:nvSpPr>
        <p:spPr>
          <a:xfrm>
            <a:off x="1343160" y="3357720"/>
            <a:ext cx="6198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так, что мы относим к водам суш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87" name="Group 29"/>
          <p:cNvGrpSpPr/>
          <p:nvPr/>
        </p:nvGrpSpPr>
        <p:grpSpPr>
          <a:xfrm>
            <a:off x="1763280" y="549360"/>
            <a:ext cx="5256720" cy="2089080"/>
            <a:chOff x="1763280" y="549360"/>
            <a:chExt cx="5256720" cy="2089080"/>
          </a:xfrm>
        </p:grpSpPr>
        <p:sp>
          <p:nvSpPr>
            <p:cNvPr id="388" name="Rectangle 19"/>
            <p:cNvSpPr/>
            <p:nvPr/>
          </p:nvSpPr>
          <p:spPr>
            <a:xfrm>
              <a:off x="3481200" y="549360"/>
              <a:ext cx="196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Tahoma"/>
                </a:rPr>
                <a:t>Воды суши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9" name="Line 25"/>
            <p:cNvSpPr/>
            <p:nvPr/>
          </p:nvSpPr>
          <p:spPr>
            <a:xfrm flipH="1">
              <a:off x="1763280" y="1054440"/>
              <a:ext cx="1800360" cy="57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0" name="Line 26"/>
            <p:cNvSpPr/>
            <p:nvPr/>
          </p:nvSpPr>
          <p:spPr>
            <a:xfrm flipH="1">
              <a:off x="2337840" y="1054440"/>
              <a:ext cx="158436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1" name="Line 27"/>
            <p:cNvSpPr/>
            <p:nvPr/>
          </p:nvSpPr>
          <p:spPr>
            <a:xfrm>
              <a:off x="4282920" y="1054440"/>
              <a:ext cx="0" cy="1584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2" name="Line 28"/>
            <p:cNvSpPr/>
            <p:nvPr/>
          </p:nvSpPr>
          <p:spPr>
            <a:xfrm>
              <a:off x="4787640" y="1054440"/>
              <a:ext cx="144000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3" name="Line 29"/>
            <p:cNvSpPr/>
            <p:nvPr/>
          </p:nvSpPr>
          <p:spPr>
            <a:xfrm>
              <a:off x="5290920" y="1054440"/>
              <a:ext cx="1729080" cy="502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94" name="Group 30"/>
          <p:cNvGrpSpPr/>
          <p:nvPr/>
        </p:nvGrpSpPr>
        <p:grpSpPr>
          <a:xfrm>
            <a:off x="946080" y="1557360"/>
            <a:ext cx="7476480" cy="1622520"/>
            <a:chOff x="946080" y="1557360"/>
            <a:chExt cx="7476480" cy="1622520"/>
          </a:xfrm>
        </p:grpSpPr>
        <p:sp>
          <p:nvSpPr>
            <p:cNvPr id="395" name="Rectangle 31"/>
            <p:cNvSpPr/>
            <p:nvPr/>
          </p:nvSpPr>
          <p:spPr>
            <a:xfrm>
              <a:off x="946080" y="1603080"/>
              <a:ext cx="77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c00cc"/>
                  </a:solidFill>
                  <a:latin typeface="Tahoma"/>
                </a:rPr>
                <a:t>реки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6" name="Rectangle 32"/>
            <p:cNvSpPr/>
            <p:nvPr/>
          </p:nvSpPr>
          <p:spPr>
            <a:xfrm>
              <a:off x="1805400" y="242064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c00cc"/>
                  </a:solidFill>
                  <a:latin typeface="Tahoma"/>
                </a:rPr>
                <a:t>озера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7" name="Rectangle 33"/>
            <p:cNvSpPr/>
            <p:nvPr/>
          </p:nvSpPr>
          <p:spPr>
            <a:xfrm>
              <a:off x="3677400" y="2781000"/>
              <a:ext cx="105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c00cc"/>
                  </a:solidFill>
                  <a:latin typeface="Tahoma"/>
                </a:rPr>
                <a:t>болота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Rectangle 34"/>
            <p:cNvSpPr/>
            <p:nvPr/>
          </p:nvSpPr>
          <p:spPr>
            <a:xfrm>
              <a:off x="5491800" y="249228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c00cc"/>
                  </a:solidFill>
                  <a:latin typeface="Tahoma"/>
                </a:rPr>
                <a:t>подземные воды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9" name="Rectangle 35"/>
            <p:cNvSpPr/>
            <p:nvPr/>
          </p:nvSpPr>
          <p:spPr>
            <a:xfrm>
              <a:off x="6967800" y="1557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cc00cc"/>
                  </a:solidFill>
                  <a:latin typeface="Tahoma"/>
                </a:rPr>
                <a:t>ледники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00" name="Group 25"/>
          <p:cNvGrpSpPr/>
          <p:nvPr/>
        </p:nvGrpSpPr>
        <p:grpSpPr>
          <a:xfrm>
            <a:off x="324000" y="4076640"/>
            <a:ext cx="2592360" cy="2544840"/>
            <a:chOff x="324000" y="4076640"/>
            <a:chExt cx="2592360" cy="2544840"/>
          </a:xfrm>
        </p:grpSpPr>
        <p:sp>
          <p:nvSpPr>
            <p:cNvPr id="401" name="Rectangle 6"/>
            <p:cNvSpPr/>
            <p:nvPr/>
          </p:nvSpPr>
          <p:spPr>
            <a:xfrm>
              <a:off x="539640" y="4076640"/>
              <a:ext cx="235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66"/>
                  </a:solidFill>
                  <a:latin typeface="Tahoma"/>
                </a:rPr>
                <a:t>Что такое болото?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402" name="Picture 9" descr="i[23]"/>
            <p:cNvPicPr/>
            <p:nvPr/>
          </p:nvPicPr>
          <p:blipFill>
            <a:blip r:embed="rId1"/>
            <a:stretch/>
          </p:blipFill>
          <p:spPr>
            <a:xfrm>
              <a:off x="324000" y="4570560"/>
              <a:ext cx="2592360" cy="205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3" name="Group 26"/>
          <p:cNvGrpSpPr/>
          <p:nvPr/>
        </p:nvGrpSpPr>
        <p:grpSpPr>
          <a:xfrm>
            <a:off x="3416040" y="4076640"/>
            <a:ext cx="2595960" cy="2578320"/>
            <a:chOff x="3416040" y="4076640"/>
            <a:chExt cx="2595960" cy="2578320"/>
          </a:xfrm>
        </p:grpSpPr>
        <p:pic>
          <p:nvPicPr>
            <p:cNvPr id="404" name="Picture 4" descr="CA79DDW1"/>
            <p:cNvPicPr/>
            <p:nvPr/>
          </p:nvPicPr>
          <p:blipFill>
            <a:blip r:embed="rId2"/>
            <a:stretch/>
          </p:blipFill>
          <p:spPr>
            <a:xfrm>
              <a:off x="3419640" y="4581360"/>
              <a:ext cx="2592360" cy="20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Rectangle 7"/>
            <p:cNvSpPr/>
            <p:nvPr/>
          </p:nvSpPr>
          <p:spPr>
            <a:xfrm>
              <a:off x="3416040" y="4076640"/>
              <a:ext cx="25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66"/>
                  </a:solidFill>
                  <a:latin typeface="Tahoma"/>
                </a:rPr>
                <a:t> </a:t>
              </a:r>
              <a:r>
                <a:rPr b="0" lang="ru-RU" sz="2000" spc="-1" strike="noStrike">
                  <a:solidFill>
                    <a:srgbClr val="000066"/>
                  </a:solidFill>
                  <a:latin typeface="Tahoma"/>
                </a:rPr>
                <a:t>Подземные воды?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06" name="Group 27"/>
          <p:cNvGrpSpPr/>
          <p:nvPr/>
        </p:nvGrpSpPr>
        <p:grpSpPr>
          <a:xfrm>
            <a:off x="6227640" y="4076640"/>
            <a:ext cx="2735280" cy="2587680"/>
            <a:chOff x="6227640" y="4076640"/>
            <a:chExt cx="2735280" cy="2587680"/>
          </a:xfrm>
        </p:grpSpPr>
        <p:pic>
          <p:nvPicPr>
            <p:cNvPr id="407" name="Picture 12" descr="i[26]"/>
            <p:cNvPicPr/>
            <p:nvPr/>
          </p:nvPicPr>
          <p:blipFill>
            <a:blip r:embed="rId3"/>
            <a:stretch/>
          </p:blipFill>
          <p:spPr>
            <a:xfrm>
              <a:off x="6227640" y="4581360"/>
              <a:ext cx="2735280" cy="20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Rectangle 8"/>
            <p:cNvSpPr/>
            <p:nvPr/>
          </p:nvSpPr>
          <p:spPr>
            <a:xfrm>
              <a:off x="6765840" y="4076640"/>
              <a:ext cx="138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66"/>
                  </a:solidFill>
                  <a:latin typeface="Tahoma"/>
                </a:rPr>
                <a:t>Ледники?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6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1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6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3024000" cy="720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А что такое рек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Какие бывают реки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0" name="Picture 4" descr="равнинная река"/>
          <p:cNvPicPr/>
          <p:nvPr/>
        </p:nvPicPr>
        <p:blipFill>
          <a:blip r:embed="rId1"/>
          <a:stretch/>
        </p:blipFill>
        <p:spPr>
          <a:xfrm>
            <a:off x="4932360" y="333360"/>
            <a:ext cx="3743280" cy="2448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горная река3"/>
          <p:cNvPicPr/>
          <p:nvPr/>
        </p:nvPicPr>
        <p:blipFill>
          <a:blip r:embed="rId2"/>
          <a:stretch/>
        </p:blipFill>
        <p:spPr>
          <a:xfrm>
            <a:off x="250920" y="4292640"/>
            <a:ext cx="3960720" cy="230508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18"/>
          <p:cNvSpPr/>
          <p:nvPr/>
        </p:nvSpPr>
        <p:spPr>
          <a:xfrm>
            <a:off x="539640" y="2492280"/>
            <a:ext cx="365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Терек воет, дик и злобен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Меж утёсистых громад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Буре плач его подобен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Слезы брызгами летя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                    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М.Ю.Лермонт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Rectangle 19"/>
          <p:cNvSpPr/>
          <p:nvPr/>
        </p:nvSpPr>
        <p:spPr>
          <a:xfrm>
            <a:off x="4932360" y="3068640"/>
            <a:ext cx="3960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Река, из чащи выраст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Немая, светлая, густ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Как бы литая из стекла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едва тек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Река ничем не выдава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Что целый мир в глубина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Вод она нес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Свое пружинистое тел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Закутав в мягкие ле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Она белела и але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И отражала небес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Rectangle 23"/>
          <p:cNvSpPr/>
          <p:nvPr/>
        </p:nvSpPr>
        <p:spPr>
          <a:xfrm>
            <a:off x="539640" y="1628640"/>
            <a:ext cx="316872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Определите, какую реку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описал авто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324000" y="2997000"/>
            <a:ext cx="41860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Показать крупные рек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           </a:t>
            </a: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- Ни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           </a:t>
            </a: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- Амазон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           </a:t>
            </a: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- Северная Дви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           </a:t>
            </a: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- Вол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           </a:t>
            </a: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- Ле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2198880" y="549360"/>
            <a:ext cx="39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Что имеет любая рек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955080" y="1557360"/>
            <a:ext cx="71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Как правильно показывают на карте рек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8" name="Picture 9" descr="Берег реки"/>
          <p:cNvPicPr/>
          <p:nvPr/>
        </p:nvPicPr>
        <p:blipFill>
          <a:blip r:embed="rId1"/>
          <a:stretch/>
        </p:blipFill>
        <p:spPr>
          <a:xfrm>
            <a:off x="4788000" y="2781360"/>
            <a:ext cx="410364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5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5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5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5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5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4066920" y="260280"/>
            <a:ext cx="309564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Какие бывают озера?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0" name="Picture 4" descr="i[97]"/>
          <p:cNvPicPr/>
          <p:nvPr/>
        </p:nvPicPr>
        <p:blipFill>
          <a:blip r:embed="rId1"/>
          <a:stretch/>
        </p:blipFill>
        <p:spPr>
          <a:xfrm>
            <a:off x="4643280" y="1413000"/>
            <a:ext cx="3816360" cy="2232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i[45]"/>
          <p:cNvPicPr/>
          <p:nvPr/>
        </p:nvPicPr>
        <p:blipFill>
          <a:blip r:embed="rId2"/>
          <a:stretch/>
        </p:blipFill>
        <p:spPr>
          <a:xfrm>
            <a:off x="395280" y="836640"/>
            <a:ext cx="3600360" cy="208764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6"/>
          <p:cNvSpPr/>
          <p:nvPr/>
        </p:nvSpPr>
        <p:spPr>
          <a:xfrm>
            <a:off x="4788000" y="836640"/>
            <a:ext cx="27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ahoma"/>
              </a:rPr>
              <a:t>соленые и пресны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688680" y="26028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Что такое озеро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952200" y="3068640"/>
            <a:ext cx="319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ahoma"/>
              </a:rPr>
              <a:t>сточные и бессточны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684360" y="3716280"/>
            <a:ext cx="777528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ЗАДАНИЕ 1. Определите озера по географическим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координата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3</a:t>
            </a:r>
            <a:r>
              <a:rPr b="0" lang="ru-RU" sz="2400" spc="-1" strike="noStrike" baseline="30000">
                <a:solidFill>
                  <a:srgbClr val="000066"/>
                </a:solidFill>
                <a:latin typeface="Tahoma"/>
              </a:rPr>
              <a:t>0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ю.ш. 33</a:t>
            </a:r>
            <a:r>
              <a:rPr b="0" lang="ru-RU" sz="2400" spc="-1" strike="noStrike" baseline="30000">
                <a:solidFill>
                  <a:srgbClr val="000066"/>
                </a:solidFill>
                <a:latin typeface="Tahoma"/>
              </a:rPr>
              <a:t>0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в.д.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28</a:t>
            </a:r>
            <a:r>
              <a:rPr b="0" lang="ru-RU" sz="2400" spc="-1" strike="noStrike" baseline="30000">
                <a:solidFill>
                  <a:srgbClr val="000066"/>
                </a:solidFill>
                <a:latin typeface="Tahoma"/>
              </a:rPr>
              <a:t>0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ю.ш 138</a:t>
            </a:r>
            <a:r>
              <a:rPr b="0" lang="ru-RU" sz="2400" spc="-1" strike="noStrike" baseline="30000">
                <a:solidFill>
                  <a:srgbClr val="000066"/>
                </a:solidFill>
                <a:latin typeface="Tahoma"/>
              </a:rPr>
              <a:t>0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в.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48</a:t>
            </a:r>
            <a:r>
              <a:rPr b="0" lang="ru-RU" sz="2400" spc="-1" strike="noStrike" baseline="30000">
                <a:solidFill>
                  <a:srgbClr val="000066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с.ш. 87</a:t>
            </a:r>
            <a:r>
              <a:rPr b="0" lang="ru-RU" sz="2400" spc="-1" strike="noStrike" baseline="30000">
                <a:solidFill>
                  <a:srgbClr val="000066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з.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14</a:t>
            </a:r>
            <a:r>
              <a:rPr b="0" lang="ru-RU" sz="2400" spc="-1" strike="noStrike" baseline="30000">
                <a:solidFill>
                  <a:srgbClr val="000066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с.ш. 14</a:t>
            </a:r>
            <a:r>
              <a:rPr b="0" lang="ru-RU" sz="2400" spc="-1" strike="noStrike" baseline="30000">
                <a:solidFill>
                  <a:srgbClr val="000066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в.д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52</a:t>
            </a:r>
            <a:r>
              <a:rPr b="0" lang="ru-RU" sz="2400" spc="-1" strike="noStrike" baseline="30000">
                <a:solidFill>
                  <a:srgbClr val="000066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с.ш. 108</a:t>
            </a:r>
            <a:r>
              <a:rPr b="0" lang="ru-RU" sz="2400" spc="-1" strike="noStrike" baseline="30000">
                <a:solidFill>
                  <a:srgbClr val="000066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в.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Rectangle 6"/>
          <p:cNvSpPr/>
          <p:nvPr/>
        </p:nvSpPr>
        <p:spPr>
          <a:xfrm>
            <a:off x="4639320" y="623736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Байка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Rectangle 8"/>
          <p:cNvSpPr/>
          <p:nvPr/>
        </p:nvSpPr>
        <p:spPr>
          <a:xfrm>
            <a:off x="4640760" y="58770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Ча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4624560" y="472428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Виктор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4636080" y="5084640"/>
            <a:ext cx="6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Эй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4647240" y="544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Верхне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Задание 2. 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Установите соответств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148360" y="2420640"/>
            <a:ext cx="42480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1.Ледниковое озер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2.Озеро-стариц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3.Вулканическое озер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4.Тектоническое озер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3" name="Picture 4" descr=""/>
          <p:cNvPicPr/>
          <p:nvPr/>
        </p:nvPicPr>
        <p:blipFill>
          <a:blip r:embed="rId1"/>
          <a:stretch/>
        </p:blipFill>
        <p:spPr>
          <a:xfrm>
            <a:off x="322200" y="1773360"/>
            <a:ext cx="4605480" cy="468288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5"/>
          <p:cNvSpPr/>
          <p:nvPr/>
        </p:nvSpPr>
        <p:spPr>
          <a:xfrm>
            <a:off x="5940360" y="4581360"/>
            <a:ext cx="126072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1 -  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2 -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3 - 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4 - 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455760" y="392904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66"/>
                </a:solidFill>
                <a:latin typeface="Tahoma"/>
              </a:rPr>
              <a:t>Средиземное, болото, родник, море, старица, залив, цунами,  водохранилище, Енисей, айсбер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6" name="Picture 4" descr="BS00611A"/>
          <p:cNvPicPr/>
          <p:nvPr/>
        </p:nvPicPr>
        <p:blipFill>
          <a:blip r:embed="rId1"/>
          <a:stretch/>
        </p:blipFill>
        <p:spPr>
          <a:xfrm>
            <a:off x="1258920" y="1844640"/>
            <a:ext cx="2449440" cy="20160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5" descr="BS00611A"/>
          <p:cNvPicPr/>
          <p:nvPr/>
        </p:nvPicPr>
        <p:blipFill>
          <a:blip r:embed="rId2"/>
          <a:stretch/>
        </p:blipFill>
        <p:spPr>
          <a:xfrm>
            <a:off x="5724360" y="1844640"/>
            <a:ext cx="2303640" cy="194472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6"/>
          <p:cNvSpPr/>
          <p:nvPr/>
        </p:nvSpPr>
        <p:spPr>
          <a:xfrm>
            <a:off x="826920" y="407664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 Мировой оке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Text Box 7"/>
          <p:cNvSpPr/>
          <p:nvPr/>
        </p:nvSpPr>
        <p:spPr>
          <a:xfrm>
            <a:off x="5580000" y="400536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Воды суш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1187280" y="476280"/>
            <a:ext cx="727236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Задание 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Распределите названия по группам</a:t>
            </a:r>
            <a:r>
              <a:rPr b="1" lang="ru-RU" sz="24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5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2000"/>
                            </p:stCondLst>
                            <p:childTnLst>
                              <p:par>
                                <p:cTn id="6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26560" y="4265280"/>
            <a:ext cx="8317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Tahoma"/>
              </a:rPr>
              <a:t>         </a:t>
            </a:r>
            <a:r>
              <a:rPr b="1" lang="ru-RU" sz="2000" spc="-1" strike="noStrike">
                <a:solidFill>
                  <a:srgbClr val="ffff66"/>
                </a:solidFill>
                <a:latin typeface="Tahoma"/>
              </a:rPr>
              <a:t>Средиземное                                         боло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ahoma"/>
              </a:rPr>
              <a:t>        </a:t>
            </a:r>
            <a:r>
              <a:rPr b="1" lang="ru-RU" sz="2000" spc="-1" strike="noStrike">
                <a:solidFill>
                  <a:srgbClr val="ffff66"/>
                </a:solidFill>
                <a:latin typeface="Tahoma"/>
              </a:rPr>
              <a:t>море                                                        водохранилищ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ahoma"/>
              </a:rPr>
              <a:t>        </a:t>
            </a:r>
            <a:r>
              <a:rPr b="1" lang="ru-RU" sz="2000" spc="-1" strike="noStrike">
                <a:solidFill>
                  <a:srgbClr val="ffff66"/>
                </a:solidFill>
                <a:latin typeface="Tahoma"/>
              </a:rPr>
              <a:t>цунами                                                    родни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ahoma"/>
              </a:rPr>
              <a:t>        </a:t>
            </a:r>
            <a:r>
              <a:rPr b="1" lang="ru-RU" sz="2000" spc="-1" strike="noStrike">
                <a:solidFill>
                  <a:srgbClr val="ffff66"/>
                </a:solidFill>
                <a:latin typeface="Tahoma"/>
              </a:rPr>
              <a:t>залив                                                       стариц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ahoma"/>
              </a:rPr>
              <a:t>        </a:t>
            </a:r>
            <a:r>
              <a:rPr b="1" lang="ru-RU" sz="2000" spc="-1" strike="noStrike">
                <a:solidFill>
                  <a:srgbClr val="ffff66"/>
                </a:solidFill>
                <a:latin typeface="Tahoma"/>
              </a:rPr>
              <a:t>айсберг                                                   Енисей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ahoma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2" name="Picture 4" descr="BS00611A"/>
          <p:cNvPicPr/>
          <p:nvPr/>
        </p:nvPicPr>
        <p:blipFill>
          <a:blip r:embed="rId1"/>
          <a:stretch/>
        </p:blipFill>
        <p:spPr>
          <a:xfrm>
            <a:off x="1973160" y="2440080"/>
            <a:ext cx="1008000" cy="91440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5" descr="BS00611A"/>
          <p:cNvPicPr/>
          <p:nvPr/>
        </p:nvPicPr>
        <p:blipFill>
          <a:blip r:embed="rId2"/>
          <a:stretch/>
        </p:blipFill>
        <p:spPr>
          <a:xfrm>
            <a:off x="6162840" y="2440080"/>
            <a:ext cx="1008000" cy="9144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BS00611A"/>
          <p:cNvPicPr/>
          <p:nvPr/>
        </p:nvPicPr>
        <p:blipFill>
          <a:blip r:embed="rId3"/>
          <a:stretch/>
        </p:blipFill>
        <p:spPr>
          <a:xfrm>
            <a:off x="5724360" y="981000"/>
            <a:ext cx="2519640" cy="201636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7" descr="BS00611A"/>
          <p:cNvPicPr/>
          <p:nvPr/>
        </p:nvPicPr>
        <p:blipFill>
          <a:blip r:embed="rId4"/>
          <a:stretch/>
        </p:blipFill>
        <p:spPr>
          <a:xfrm>
            <a:off x="1332000" y="907920"/>
            <a:ext cx="2449440" cy="201636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8"/>
          <p:cNvSpPr/>
          <p:nvPr/>
        </p:nvSpPr>
        <p:spPr>
          <a:xfrm>
            <a:off x="900000" y="3716280"/>
            <a:ext cx="31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 Мировой оке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Text Box 9"/>
          <p:cNvSpPr/>
          <p:nvPr/>
        </p:nvSpPr>
        <p:spPr>
          <a:xfrm>
            <a:off x="5508720" y="37893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 Воды суш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893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ff66"/>
                </a:solidFill>
                <a:latin typeface="Tahoma"/>
              </a:rPr>
              <a:t>ЗАДАНИЕ 4.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В книге рекордов Гинесса  рекорды разные е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Давайте же мы с вами рекорды побьем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И самое, самое в гидросфере сейчас назове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               </a:t>
            </a: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1- самый большой океан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2- самая длинная река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3- самое глубокое озеро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4- самое большое озеро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5- самое соленое озеро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6- самое соленое море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7- самая полноводная рек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8- самое крупное течение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9- самое известное теч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5417640" y="1916280"/>
            <a:ext cx="10249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Тих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5428800" y="2421000"/>
            <a:ext cx="7232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Ни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5431680" y="2852640"/>
            <a:ext cx="11559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Байка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Rectangle 8"/>
          <p:cNvSpPr/>
          <p:nvPr/>
        </p:nvSpPr>
        <p:spPr>
          <a:xfrm>
            <a:off x="5421240" y="3429000"/>
            <a:ext cx="17640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Каспийско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Rectangle 9"/>
          <p:cNvSpPr/>
          <p:nvPr/>
        </p:nvSpPr>
        <p:spPr>
          <a:xfrm>
            <a:off x="5423400" y="3933720"/>
            <a:ext cx="13406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Мертво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Rectangle 10"/>
          <p:cNvSpPr/>
          <p:nvPr/>
        </p:nvSpPr>
        <p:spPr>
          <a:xfrm>
            <a:off x="5438520" y="4365720"/>
            <a:ext cx="12751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Красно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Rectangle 12"/>
          <p:cNvSpPr/>
          <p:nvPr/>
        </p:nvSpPr>
        <p:spPr>
          <a:xfrm>
            <a:off x="5435640" y="5373720"/>
            <a:ext cx="37083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Течение западных ветр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Rectangle 13"/>
          <p:cNvSpPr/>
          <p:nvPr/>
        </p:nvSpPr>
        <p:spPr>
          <a:xfrm>
            <a:off x="5418000" y="5877000"/>
            <a:ext cx="18403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Гольфстри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Rectangle 14"/>
          <p:cNvSpPr/>
          <p:nvPr/>
        </p:nvSpPr>
        <p:spPr>
          <a:xfrm>
            <a:off x="5435640" y="4797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Амазон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9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4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9" dur="5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4" dur="500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9" dur="500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4" dur="500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9" dur="500"/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4" dur="500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9" dur="500"/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4" dur="500"/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9" dur="500"/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Анимация: Океа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403280" y="333000"/>
            <a:ext cx="66168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«Вода, у тебя нет ни вкус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ни запах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тебя невозможно описать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тобой наслаждаютс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не ведая, что ты тако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Нельзя сказа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что ты необходима для жизни</a:t>
            </a:r>
            <a:r>
              <a:rPr b="1" lang="ru-RU" sz="2000" spc="-1" strike="noStrike">
                <a:solidFill>
                  <a:srgbClr val="ffff66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Ты – сама жизнь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1" i="1" lang="ru-RU" sz="2000" spc="-1" strike="noStrike">
                <a:solidFill>
                  <a:srgbClr val="ffff66"/>
                </a:solidFill>
                <a:latin typeface="Tahoma"/>
              </a:rPr>
              <a:t>Антуан де Сент-Экзюпер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1042920" y="764640"/>
            <a:ext cx="7345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Tahoma"/>
              </a:rPr>
              <a:t>Задание 5.</a:t>
            </a:r>
            <a:r>
              <a:rPr b="1" lang="ru-RU" sz="1600" spc="-1" strike="noStrike">
                <a:solidFill>
                  <a:srgbClr val="cc00cc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cc00cc"/>
                </a:solidFill>
                <a:latin typeface="Tahoma"/>
              </a:rPr>
              <a:t>«Что лишнее?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ahoma"/>
              </a:rPr>
              <a:t>Найдите группу слов, объединяющи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ahoma"/>
              </a:rPr>
              <a:t>что-либо и определите лишнее слов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1.</a:t>
            </a: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Красное море, Балтийское море, Берингово море, Средиземное мо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2. Байкал, Волга, Чад, Виктор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3. Устье, исток, дельта, род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4. Водопад, паводок, половодь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5. Канал, пруд, озеро, водохранилищ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6. Ладожское, Красное, Онежское Каспийск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0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2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7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2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7" dur="500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2" dur="500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7" dur="500"/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2" dur="500"/>
                                        <p:tgtEl>
                                          <p:spTgt spid="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4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7" dur="500"/>
                                        <p:tgtEl>
                                          <p:spTgt spid="4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4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4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500"/>
                                        <p:tgtEl>
                                          <p:spTgt spid="4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755280" y="836640"/>
            <a:ext cx="8064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Задание 6. По логическому ряду определить  географический терм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1. Океан, корабль , лёд, гора, опас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2. Горы, высота, уступ, грохо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3. Ветер, вода, бутылка, письм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4. Землетрясение, волна, опас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5. Вода, соль, доля веще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39592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99"/>
                </a:solidFill>
                <a:uFillTx/>
                <a:latin typeface="Arial"/>
              </a:rPr>
              <a:t>Те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1. Что входит в понятие «Гидросфера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а) океаны и мор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б) реки, озера, водохранилищ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в) ледн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г) подземные 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д) все перечислен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2. Почему пресная вода на Земл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не иссякает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а) существуют океаны и мор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б) существуют реки и оз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в) существуют ледн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г) существуют подземные 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д) существует круговорот вод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в приро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3. В каких состояниях существу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вода в приро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а) жидк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б) твердом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в) газообразн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г) во всех названных состоян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648320" y="404640"/>
            <a:ext cx="403848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. Какова основная причи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приливов и отлив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а) океанические те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б) притяжение воды лу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в) перепад температуры морской 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г) ве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5. От чего образуются цун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а) землетряс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б) температуры морской 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в) ве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г) океанических теч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6. В каком море наибольш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соленость 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а) Черн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б) Средизем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в) Красн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г) Бел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428400" y="357120"/>
            <a:ext cx="684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7. Чем ценен мировой оке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а) вод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б) полезными ископаемы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в) водоросл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г) рыбой и морскими животны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д) всем перечисленн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8. Назовите материк, который омывается четырьмя океан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а) Евраз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б) Афр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в) Австра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г) Северная Амер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д) Южная Амер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9. Какова основная причина океанических теч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а) географическое положение оке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б) нагревание воды солнц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в) подземные водные источн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г) постоянные ве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10. Что включает в себя понятие «поверхностные вод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а) ре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б) оз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в) ледники и подземные 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г) боло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д) все перечисленные 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1187280" y="1125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ahoma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1.Найти стихи и загадк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2.Составить ребус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3.Сделать презентаци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WordArt 2"/>
          <p:cNvSpPr txBox="1"/>
          <p:nvPr/>
        </p:nvSpPr>
        <p:spPr>
          <a:xfrm>
            <a:off x="1258920" y="2060640"/>
            <a:ext cx="684216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СПАСИБО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8"/>
          <p:cNvGrpSpPr/>
          <p:nvPr/>
        </p:nvGrpSpPr>
        <p:grpSpPr>
          <a:xfrm>
            <a:off x="2698920" y="2133720"/>
            <a:ext cx="3600360" cy="914400"/>
            <a:chOff x="2698920" y="2133720"/>
            <a:chExt cx="3600360" cy="914400"/>
          </a:xfrm>
        </p:grpSpPr>
        <p:sp>
          <p:nvSpPr>
            <p:cNvPr id="322" name="AutoShape 36"/>
            <p:cNvSpPr/>
            <p:nvPr/>
          </p:nvSpPr>
          <p:spPr>
            <a:xfrm>
              <a:off x="2698920" y="2133720"/>
              <a:ext cx="3600360" cy="9144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3" name="Rectangle 29"/>
            <p:cNvSpPr/>
            <p:nvPr/>
          </p:nvSpPr>
          <p:spPr>
            <a:xfrm>
              <a:off x="2917080" y="2205000"/>
              <a:ext cx="308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99"/>
                  </a:solidFill>
                  <a:latin typeface="Tahoma"/>
                </a:rPr>
                <a:t>Гидросфера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24" name="Group 20"/>
          <p:cNvGrpSpPr/>
          <p:nvPr/>
        </p:nvGrpSpPr>
        <p:grpSpPr>
          <a:xfrm>
            <a:off x="250920" y="3068640"/>
            <a:ext cx="8569080" cy="3435480"/>
            <a:chOff x="250920" y="3068640"/>
            <a:chExt cx="8569080" cy="3435480"/>
          </a:xfrm>
        </p:grpSpPr>
        <p:sp>
          <p:nvSpPr>
            <p:cNvPr id="325" name="Line 28"/>
            <p:cNvSpPr/>
            <p:nvPr/>
          </p:nvSpPr>
          <p:spPr>
            <a:xfrm>
              <a:off x="5938920" y="3070080"/>
              <a:ext cx="1512720" cy="2448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AutoShape 37"/>
            <p:cNvSpPr/>
            <p:nvPr/>
          </p:nvSpPr>
          <p:spPr>
            <a:xfrm>
              <a:off x="5938920" y="5518080"/>
              <a:ext cx="2881080" cy="9144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7" name="AutoShape 39"/>
            <p:cNvSpPr/>
            <p:nvPr/>
          </p:nvSpPr>
          <p:spPr>
            <a:xfrm>
              <a:off x="3203640" y="4221000"/>
              <a:ext cx="2881080" cy="9144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8" name="Line 27"/>
            <p:cNvSpPr/>
            <p:nvPr/>
          </p:nvSpPr>
          <p:spPr>
            <a:xfrm flipH="1">
              <a:off x="1619280" y="3068640"/>
              <a:ext cx="1440000" cy="251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9" name="AutoShape 38"/>
            <p:cNvSpPr/>
            <p:nvPr/>
          </p:nvSpPr>
          <p:spPr>
            <a:xfrm>
              <a:off x="250920" y="5589720"/>
              <a:ext cx="2881080" cy="9144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0" name="Rectangle 33"/>
            <p:cNvSpPr/>
            <p:nvPr/>
          </p:nvSpPr>
          <p:spPr>
            <a:xfrm>
              <a:off x="981720" y="5805360"/>
              <a:ext cx="182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66"/>
                  </a:solidFill>
                  <a:latin typeface="Tahoma"/>
                </a:rPr>
                <a:t>Воды суши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Rectangle 32"/>
            <p:cNvSpPr/>
            <p:nvPr/>
          </p:nvSpPr>
          <p:spPr>
            <a:xfrm>
              <a:off x="3382200" y="4438800"/>
              <a:ext cx="25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66"/>
                  </a:solidFill>
                  <a:latin typeface="Tahoma"/>
                </a:rPr>
                <a:t>Мировой океан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2" name="Rectangle 34"/>
            <p:cNvSpPr/>
            <p:nvPr/>
          </p:nvSpPr>
          <p:spPr>
            <a:xfrm>
              <a:off x="5938920" y="5662440"/>
              <a:ext cx="288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ru-RU" sz="2400" spc="-1" strike="noStrike">
                  <a:solidFill>
                    <a:srgbClr val="ffff66"/>
                  </a:solidFill>
                  <a:latin typeface="Tahoma"/>
                </a:rPr>
                <a:t>Вода в атмосфер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3" name="Line 40"/>
            <p:cNvSpPr/>
            <p:nvPr/>
          </p:nvSpPr>
          <p:spPr>
            <a:xfrm>
              <a:off x="4570560" y="3070080"/>
              <a:ext cx="0" cy="11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34" name="Rectangle 46"/>
          <p:cNvSpPr/>
          <p:nvPr/>
        </p:nvSpPr>
        <p:spPr>
          <a:xfrm>
            <a:off x="1348920" y="404640"/>
            <a:ext cx="656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Tahoma"/>
              </a:rPr>
              <a:t>Гидросфера –</a:t>
            </a:r>
            <a:br>
              <a:rPr sz="3600"/>
            </a:br>
            <a:r>
              <a:rPr b="0" lang="ru-RU" sz="3600" spc="-1" strike="noStrike">
                <a:solidFill>
                  <a:srgbClr val="ffff66"/>
                </a:solidFill>
                <a:latin typeface="Tahoma"/>
              </a:rPr>
              <a:t> это водная оболочка Земл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5"/>
          <p:cNvSpPr/>
          <p:nvPr/>
        </p:nvSpPr>
        <p:spPr>
          <a:xfrm>
            <a:off x="825840" y="309024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Line 17"/>
          <p:cNvSpPr/>
          <p:nvPr/>
        </p:nvSpPr>
        <p:spPr>
          <a:xfrm flipH="1">
            <a:off x="4787640" y="765000"/>
            <a:ext cx="1006200" cy="55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Line 19"/>
          <p:cNvSpPr/>
          <p:nvPr/>
        </p:nvSpPr>
        <p:spPr>
          <a:xfrm>
            <a:off x="7020000" y="692280"/>
            <a:ext cx="115236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Line 20"/>
          <p:cNvSpPr/>
          <p:nvPr/>
        </p:nvSpPr>
        <p:spPr>
          <a:xfrm>
            <a:off x="6516720" y="836640"/>
            <a:ext cx="0" cy="1370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Rectangle 21"/>
          <p:cNvSpPr/>
          <p:nvPr/>
        </p:nvSpPr>
        <p:spPr>
          <a:xfrm>
            <a:off x="5508720" y="189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ВОД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Rectangle 22"/>
          <p:cNvSpPr/>
          <p:nvPr/>
        </p:nvSpPr>
        <p:spPr>
          <a:xfrm>
            <a:off x="7223040" y="141300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Тверд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Rectangle 23"/>
          <p:cNvSpPr/>
          <p:nvPr/>
        </p:nvSpPr>
        <p:spPr>
          <a:xfrm>
            <a:off x="4054320" y="141300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Жидк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Rectangle 24"/>
          <p:cNvSpPr/>
          <p:nvPr/>
        </p:nvSpPr>
        <p:spPr>
          <a:xfrm>
            <a:off x="5558040" y="220500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Газообразн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611280" y="1125360"/>
            <a:ext cx="3240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ahoma"/>
              </a:rPr>
              <a:t>Гидросферу  изучал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ahoma"/>
              </a:rPr>
              <a:t>На вопросы отвечали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ahoma"/>
              </a:rPr>
              <a:t>Вода минерал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ahoma"/>
              </a:rPr>
              <a:t>вода – </a:t>
            </a:r>
            <a:r>
              <a:rPr b="1" lang="en-US" sz="2200" spc="-1" strike="noStrike">
                <a:solidFill>
                  <a:srgbClr val="000066"/>
                </a:solidFill>
                <a:latin typeface="Tahoma"/>
              </a:rPr>
              <a:t>H</a:t>
            </a:r>
            <a:r>
              <a:rPr b="1" lang="ru-RU" sz="22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Tahoma"/>
              </a:rPr>
              <a:t>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ahoma"/>
              </a:rPr>
              <a:t>Вода во вселенной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ahoma"/>
              </a:rPr>
              <a:t>превыше всего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ahoma"/>
              </a:rPr>
              <a:t>Позвольте спросить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ahoma"/>
              </a:rPr>
              <a:t>вас тогд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ahoma"/>
              </a:rPr>
              <a:t>В каком состоянии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ahoma"/>
              </a:rPr>
              <a:t>бывает вода?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4" name="Picture 36" descr="ph01390j"/>
          <p:cNvPicPr/>
          <p:nvPr/>
        </p:nvPicPr>
        <p:blipFill>
          <a:blip r:embed="rId1"/>
          <a:stretch/>
        </p:blipFill>
        <p:spPr>
          <a:xfrm>
            <a:off x="4284720" y="3303720"/>
            <a:ext cx="4608360" cy="29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395280" y="79740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6" name="Picture 5" descr="2ad1[1]"/>
          <p:cNvPicPr/>
          <p:nvPr/>
        </p:nvPicPr>
        <p:blipFill>
          <a:blip r:embed="rId1"/>
          <a:stretch/>
        </p:blipFill>
        <p:spPr>
          <a:xfrm>
            <a:off x="468360" y="2349360"/>
            <a:ext cx="8424720" cy="417528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47"/>
          <p:cNvSpPr/>
          <p:nvPr/>
        </p:nvSpPr>
        <p:spPr>
          <a:xfrm>
            <a:off x="826920" y="476280"/>
            <a:ext cx="42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Вода в гидросфере подвиж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То жидкость она, то ле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Может в пар она превратить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Так что же такое круговорот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Rectangle 52"/>
          <p:cNvSpPr/>
          <p:nvPr/>
        </p:nvSpPr>
        <p:spPr>
          <a:xfrm>
            <a:off x="4929840" y="379440"/>
            <a:ext cx="37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ahoma"/>
              </a:rPr>
              <a:t>Какой бывает круговорот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49" name="Group 53"/>
          <p:cNvGrpSpPr/>
          <p:nvPr/>
        </p:nvGrpSpPr>
        <p:grpSpPr>
          <a:xfrm>
            <a:off x="5292720" y="981000"/>
            <a:ext cx="3092400" cy="1191240"/>
            <a:chOff x="5292720" y="981000"/>
            <a:chExt cx="3092400" cy="1191240"/>
          </a:xfrm>
        </p:grpSpPr>
        <p:sp>
          <p:nvSpPr>
            <p:cNvPr id="350" name="Rectangle 49"/>
            <p:cNvSpPr/>
            <p:nvPr/>
          </p:nvSpPr>
          <p:spPr>
            <a:xfrm>
              <a:off x="5292720" y="981000"/>
              <a:ext cx="3092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cc"/>
                  </a:solidFill>
                  <a:latin typeface="Tahoma"/>
                </a:rPr>
                <a:t>Круговорот воды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cc"/>
                  </a:solidFill>
                  <a:latin typeface="Tahoma"/>
                </a:rPr>
                <a:t>большой                 малы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1" name="Line 50"/>
            <p:cNvSpPr/>
            <p:nvPr/>
          </p:nvSpPr>
          <p:spPr>
            <a:xfrm flipH="1">
              <a:off x="5797080" y="1341360"/>
              <a:ext cx="86364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2" name="Line 51"/>
            <p:cNvSpPr/>
            <p:nvPr/>
          </p:nvSpPr>
          <p:spPr>
            <a:xfrm>
              <a:off x="6950160" y="1341360"/>
              <a:ext cx="93672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68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10" descr="BA_Gone_with_the_waves"/>
          <p:cNvPicPr/>
          <p:nvPr/>
        </p:nvPicPr>
        <p:blipFill>
          <a:blip r:embed="rId1"/>
          <a:stretch/>
        </p:blipFill>
        <p:spPr>
          <a:xfrm>
            <a:off x="179280" y="2492280"/>
            <a:ext cx="3456000" cy="302436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4"/>
          <p:cNvSpPr/>
          <p:nvPr/>
        </p:nvSpPr>
        <p:spPr>
          <a:xfrm>
            <a:off x="2571840" y="212040"/>
            <a:ext cx="47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Вы з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наете четыре оке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Я прошу вас их назват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Начать надо с велик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И самым маленьким заверши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5" name="Picture 6" descr="i[84]"/>
          <p:cNvPicPr/>
          <p:nvPr/>
        </p:nvPicPr>
        <p:blipFill>
          <a:blip r:embed="rId2"/>
          <a:stretch/>
        </p:blipFill>
        <p:spPr>
          <a:xfrm>
            <a:off x="5508720" y="2421000"/>
            <a:ext cx="3456000" cy="30956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i[62]"/>
          <p:cNvPicPr/>
          <p:nvPr/>
        </p:nvPicPr>
        <p:blipFill>
          <a:blip r:embed="rId3"/>
          <a:stretch/>
        </p:blipFill>
        <p:spPr>
          <a:xfrm>
            <a:off x="2700360" y="4076640"/>
            <a:ext cx="4033800" cy="252108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8"/>
          <p:cNvSpPr/>
          <p:nvPr/>
        </p:nvSpPr>
        <p:spPr>
          <a:xfrm>
            <a:off x="3132000" y="1916280"/>
            <a:ext cx="3241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Тихий,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Атлантический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Индийский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Северный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     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Ледовиты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оке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508360" y="1052280"/>
            <a:ext cx="3384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Назовите и покажите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на карте известные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вам моря и пролив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23640" y="549360"/>
            <a:ext cx="5041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А сейчас моря, проливы я буду называ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А вы готовы продолжа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Сколько известных имен на карте 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Пролив Дрейка и Берингов е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Море Лаптевых и море Бафф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Продолжите список! Он ведь не весь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0" name="Picture 5" descr="CACXYB4D"/>
          <p:cNvPicPr/>
          <p:nvPr/>
        </p:nvPicPr>
        <p:blipFill>
          <a:blip r:embed="rId1"/>
          <a:stretch/>
        </p:blipFill>
        <p:spPr>
          <a:xfrm>
            <a:off x="395280" y="3141720"/>
            <a:ext cx="4032360" cy="33843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8" descr="i[90]"/>
          <p:cNvPicPr/>
          <p:nvPr/>
        </p:nvPicPr>
        <p:blipFill>
          <a:blip r:embed="rId2"/>
          <a:stretch/>
        </p:blipFill>
        <p:spPr>
          <a:xfrm>
            <a:off x="4788000" y="3789360"/>
            <a:ext cx="41036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319280" y="620280"/>
            <a:ext cx="5148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Моря есть разные на све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Я хочу спросить о цве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Кто в них краски растира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Морям названия давал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Какие цветные моря Вы знает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66"/>
                </a:solidFill>
                <a:latin typeface="Tahoma"/>
              </a:rPr>
              <a:t>                           </a:t>
            </a: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5376960" y="3141720"/>
            <a:ext cx="27457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Красно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рное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лое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Желто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4" name="Picture 6" descr="i[81]"/>
          <p:cNvPicPr/>
          <p:nvPr/>
        </p:nvPicPr>
        <p:blipFill>
          <a:blip r:embed="rId1"/>
          <a:stretch/>
        </p:blipFill>
        <p:spPr>
          <a:xfrm>
            <a:off x="611280" y="404640"/>
            <a:ext cx="3384360" cy="29530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i[84]"/>
          <p:cNvPicPr/>
          <p:nvPr/>
        </p:nvPicPr>
        <p:blipFill>
          <a:blip r:embed="rId2"/>
          <a:stretch/>
        </p:blipFill>
        <p:spPr>
          <a:xfrm>
            <a:off x="1979640" y="4149720"/>
            <a:ext cx="424800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1258560" y="404640"/>
            <a:ext cx="5761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Соленость разную имеет вода в океа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Постоянной она остается только у  д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А там где в океан впадает р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Почему соленость меньше всегд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1042920" y="2922840"/>
            <a:ext cx="651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колько средняя соленость морской воды?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4284720" y="1773360"/>
            <a:ext cx="34560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река приносит пресную воду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разбавляет морску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1187280" y="4149720"/>
            <a:ext cx="410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Морская вода горька, соло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Ею напиться нельзя никог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В детстве лучше всех вопрос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А кто же соль в моря принес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5050080" y="5516640"/>
            <a:ext cx="27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(поступает с суши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3564000" y="345816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 Black"/>
              </a:rPr>
              <a:t>(35 промилл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06:59:50Z</dcterms:created>
  <dc:creator>Учитель</dc:creator>
  <dc:description/>
  <dc:language>en-US</dc:language>
  <cp:lastModifiedBy>Светлана</cp:lastModifiedBy>
  <dcterms:modified xsi:type="dcterms:W3CDTF">2023-03-01T11:32:54Z</dcterms:modified>
  <cp:revision>233</cp:revision>
  <dc:subject/>
  <dc:title>Гидросфера</dc:title>
</cp:coreProperties>
</file>