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14.wmf" ContentType="image/x-wmf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24.png" ContentType="image/png"/>
  <Override PartName="/ppt/media/image21.gif" ContentType="image/gif"/>
  <Override PartName="/ppt/media/image20.wmf" ContentType="image/x-wmf"/>
  <Override PartName="/ppt/media/image19.png" ContentType="image/png"/>
  <Override PartName="/ppt/media/chimes.wav" ContentType="audio/x-wav"/>
  <Override PartName="/ppt/media/image16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82E5-6CDA-4E25-93DA-D912C7F9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96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9C93-5826-452A-8D6A-8F5755F3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96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4CC7-10D5-44B5-BCD7-93FE8D3E0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96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2627-6840-45FB-98FF-1D117747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5760-5D4E-4BFD-A38D-F639C63D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96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6268-7E83-4543-A1A4-0DEE291F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96e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2F68-6F7B-4766-8DF0-61083C6C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96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B4A2-0F16-4B1E-B597-7F6793AF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9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107E-ED2F-4A6A-AF1B-EC65E194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321F-9E8F-4B64-9F7A-E4E9E518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96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9073-7159-4D0D-91B0-DDA9AEF7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96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B805-10EF-4F8C-A9BF-4FBDCDDF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96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AB14-9831-4398-8C69-91A73A3F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96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9919-FC94-4A0A-A6E7-98DF05CC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96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5732-26D0-4539-B05A-1F1EAC4C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96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8CCB-BE75-41D8-A7F4-946CC326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96e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981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9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719E-7930-49D2-AB7E-B2048CB2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96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5493-DF87-408F-9A88-88577997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96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310E-E220-43A5-BDE6-542472F5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96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F706-FB1C-4107-A730-56DEBA67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3300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D4E0-005D-44C3-BC72-09495F0D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96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93A4-5E44-464F-9959-861412E4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96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9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D1B8-C559-4BB2-B847-142F2492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96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981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9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C298-3083-4E72-8544-0526BDF6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7"/>
          <p:cNvSpPr/>
          <p:nvPr/>
        </p:nvSpPr>
        <p:spPr>
          <a:xfrm>
            <a:off x="179280" y="293760"/>
            <a:ext cx="8785440" cy="6159600"/>
          </a:xfrm>
          <a:prstGeom prst="roundRect">
            <a:avLst>
              <a:gd name="adj" fmla="val 4741"/>
            </a:avLst>
          </a:prstGeom>
          <a:solidFill>
            <a:srgbClr val="bbe0e3">
              <a:alpha val="80000"/>
            </a:srgbClr>
          </a:solidFill>
          <a:ln w="57240">
            <a:solidFill>
              <a:srgbClr val="66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96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96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388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CBC7-A956-441E-97C5-E550C4E0A9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0"/>
          <p:cNvSpPr/>
          <p:nvPr/>
        </p:nvSpPr>
        <p:spPr>
          <a:xfrm>
            <a:off x="2735280" y="514980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33"/>
                </a:solidFill>
                <a:latin typeface="Arial"/>
              </a:rPr>
              <a:t>Просмо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>
            <a:hlinkClick r:id="" action="ppaction://hlinkshowjump?jump=nextslide"/>
          </p:cNvPr>
          <p:cNvSpPr/>
          <p:nvPr/>
        </p:nvSpPr>
        <p:spPr>
          <a:xfrm>
            <a:off x="2843280" y="4797360"/>
            <a:ext cx="3457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96e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496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388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SzPct val="10785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SzPct val="10785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088D-E84A-4AD0-A7D1-F7B8FBF607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34920" y="2636640"/>
            <a:ext cx="583236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«Солнце дружбы нашего класса» </a:t>
            </a:r>
            <a:endParaRPr b="1" lang="en-US" sz="3600" spc="-1" strike="noStrike">
              <a:solidFill>
                <a:srgbClr val="00496e"/>
              </a:solidFill>
              <a:latin typeface="Arial"/>
            </a:endParaRPr>
          </a:p>
        </p:txBody>
      </p:sp>
      <p:sp>
        <p:nvSpPr>
          <p:cNvPr id="86" name="Выноска-облако 3"/>
          <p:cNvSpPr/>
          <p:nvPr/>
        </p:nvSpPr>
        <p:spPr>
          <a:xfrm>
            <a:off x="2268360" y="4221000"/>
            <a:ext cx="4535640" cy="205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БОУ Пестравский психологический цент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едагог-психолог  Е.В. Максим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324000" y="260280"/>
            <a:ext cx="84247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Выноска-облако 5"/>
          <p:cNvSpPr/>
          <p:nvPr/>
        </p:nvSpPr>
        <p:spPr>
          <a:xfrm>
            <a:off x="250920" y="0"/>
            <a:ext cx="2952720" cy="1773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cc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Час общения с элементами тренинг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228600" y="1523880"/>
            <a:ext cx="4191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Лучше явный вра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4419720" y="1981080"/>
            <a:ext cx="4495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434"/>
                </a:solidFill>
                <a:latin typeface="Arial"/>
              </a:rPr>
              <a:t>нежели подлый льстец и лицемер; такой безобразит человечеств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276720" y="4343400"/>
            <a:ext cx="4190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тр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ели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петр 1"/>
          <p:cNvPicPr/>
          <p:nvPr/>
        </p:nvPicPr>
        <p:blipFill>
          <a:blip r:embed="rId1"/>
          <a:stretch/>
        </p:blipFill>
        <p:spPr>
          <a:xfrm>
            <a:off x="685800" y="2590920"/>
            <a:ext cx="2560680" cy="3346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380880" y="914400"/>
            <a:ext cx="4191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скренность отношений, правда в общении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4648320" y="2362320"/>
            <a:ext cx="4495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434"/>
                </a:solidFill>
                <a:latin typeface="Arial"/>
              </a:rPr>
              <a:t>вот дружба</a:t>
            </a:r>
            <a:r>
              <a:rPr b="1" i="1" lang="ru-RU" sz="2800" spc="-1" strike="noStrike">
                <a:solidFill>
                  <a:srgbClr val="007434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895480" y="4114800"/>
            <a:ext cx="4191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лександр Васильевич Сув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суворов"/>
          <p:cNvPicPr/>
          <p:nvPr/>
        </p:nvPicPr>
        <p:blipFill>
          <a:blip r:embed="rId1"/>
          <a:stretch/>
        </p:blipFill>
        <p:spPr>
          <a:xfrm>
            <a:off x="539640" y="2924280"/>
            <a:ext cx="2332080" cy="3009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457200" y="1066680"/>
            <a:ext cx="4191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8. «Сам погибай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4495680" y="2057400"/>
            <a:ext cx="4496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434"/>
                </a:solidFill>
                <a:latin typeface="Arial"/>
              </a:rPr>
              <a:t>товарища выручай</a:t>
            </a:r>
            <a:r>
              <a:rPr b="1" i="1" lang="ru-RU" sz="2800" spc="-1" strike="noStrike">
                <a:solidFill>
                  <a:srgbClr val="007434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048120" y="4267080"/>
            <a:ext cx="4190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лександр Васильевич Сув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суворов"/>
          <p:cNvPicPr/>
          <p:nvPr/>
        </p:nvPicPr>
        <p:blipFill>
          <a:blip r:embed="rId1"/>
          <a:stretch/>
        </p:blipFill>
        <p:spPr>
          <a:xfrm>
            <a:off x="533520" y="2819520"/>
            <a:ext cx="2332080" cy="3009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1219320" y="990720"/>
            <a:ext cx="48225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Antique-Olive"/>
              </a:rPr>
              <a:t>Зачем человеку нужны друзья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Женщины утешают друг друга"/>
          <p:cNvPicPr/>
          <p:nvPr/>
        </p:nvPicPr>
        <p:blipFill>
          <a:blip r:embed="rId1"/>
          <a:stretch/>
        </p:blipFill>
        <p:spPr>
          <a:xfrm rot="1197600">
            <a:off x="6857640" y="2285640"/>
            <a:ext cx="1574640" cy="2286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_BosaNova"/>
              </a:rPr>
              <a:t>Значение дружбы в жизни человека</a:t>
            </a:r>
            <a:r>
              <a:rPr b="0" lang="ru-RU" sz="3600" spc="-1" strike="noStrike">
                <a:solidFill>
                  <a:srgbClr val="000099"/>
                </a:solidFill>
                <a:latin typeface="a_BosaNov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Bookman Old Style"/>
              </a:rPr>
              <a:t>  </a:t>
            </a:r>
            <a:r>
              <a:rPr b="1" lang="ru-RU" sz="3600" spc="-1" strike="noStrike">
                <a:solidFill>
                  <a:srgbClr val="000099"/>
                </a:solidFill>
                <a:latin typeface="Bookman Old Style"/>
              </a:rPr>
              <a:t>состоит в том, что она удовлетворяет одну из главных человеческих потребностей – потребность в защищенности, в общении, в близких отношениях с другим человеком. 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37" name="Picture 4" descr="MCj03433950000[1]"/>
          <p:cNvPicPr/>
          <p:nvPr/>
        </p:nvPicPr>
        <p:blipFill>
          <a:blip r:embed="rId1"/>
          <a:stretch/>
        </p:blipFill>
        <p:spPr>
          <a:xfrm>
            <a:off x="6934320" y="457200"/>
            <a:ext cx="1931760" cy="2286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96e"/>
                </a:solidFill>
                <a:latin typeface="Arial"/>
              </a:rPr>
              <a:t>Помочь вам могут вопросы</a:t>
            </a:r>
            <a:endParaRPr b="1" lang="en-US" sz="2400" spc="-1" strike="noStrike">
              <a:solidFill>
                <a:srgbClr val="00496e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90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Честный ли ты с другом?</a:t>
            </a:r>
            <a:br>
              <a:rPr sz="2000"/>
            </a:b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Добр ли ты?</a:t>
            </a:r>
            <a:br>
              <a:rPr sz="2000"/>
            </a:b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Ты верный и преданный?</a:t>
            </a:r>
            <a:br>
              <a:rPr sz="2000"/>
            </a:b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Терпелив ли ты?</a:t>
            </a:r>
            <a:br>
              <a:rPr sz="2000"/>
            </a:b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Помогаешь ли справиться с бедой?</a:t>
            </a:r>
            <a:br>
              <a:rPr sz="2000"/>
            </a:b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Ты интересен?</a:t>
            </a:r>
            <a:br>
              <a:rPr sz="2000"/>
            </a:b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Приветливый ли ты человек?</a:t>
            </a:r>
            <a:br>
              <a:rPr sz="2000"/>
            </a:b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Ты завидуешь другу?</a:t>
            </a:r>
            <a:br>
              <a:rPr sz="2000"/>
            </a:b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Ты зазнайка?</a:t>
            </a:r>
            <a:br>
              <a:rPr sz="2000"/>
            </a:b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Умеешь ли хранить тайну?</a:t>
            </a:r>
            <a:br>
              <a:rPr sz="2000"/>
            </a:b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Внимательный ли ты к другому человеку?</a:t>
            </a:r>
            <a:br>
              <a:rPr sz="2000"/>
            </a:b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Умеешь ли уступать другу?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Ты ссоришься с другом по пустякам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Ты умеешь искренне радоваться успехам друга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5418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http://smayli.ru/data/smiles/apogoda-9.gif"/>
          <p:cNvPicPr/>
          <p:nvPr/>
        </p:nvPicPr>
        <p:blipFill>
          <a:blip r:embed="rId1"/>
          <a:stretch/>
        </p:blipFill>
        <p:spPr>
          <a:xfrm>
            <a:off x="2556000" y="549360"/>
            <a:ext cx="4032000" cy="4214880"/>
          </a:xfrm>
          <a:prstGeom prst="rect">
            <a:avLst/>
          </a:prstGeom>
          <a:ln w="0">
            <a:noFill/>
          </a:ln>
        </p:spPr>
      </p:pic>
      <p:pic>
        <p:nvPicPr>
          <p:cNvPr id="141" name="Блок-схема: перфолента 4" descr=""/>
          <p:cNvPicPr/>
          <p:nvPr/>
        </p:nvPicPr>
        <p:blipFill>
          <a:blip r:embed="rId2"/>
          <a:stretch/>
        </p:blipFill>
        <p:spPr>
          <a:xfrm>
            <a:off x="1987560" y="4780080"/>
            <a:ext cx="5645160" cy="1773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_BosaNova"/>
              </a:rPr>
              <a:t>Правила  дружбы </a:t>
            </a:r>
            <a:br>
              <a:rPr sz="2400"/>
            </a:b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5f5f"/>
                </a:solidFill>
                <a:latin typeface="AGReverence-Oblique"/>
              </a:rPr>
              <a:t>всегда говорить правду друг другу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5f5f"/>
                </a:solidFill>
                <a:latin typeface="AGReverence-Oblique"/>
              </a:rPr>
              <a:t>не сердиться на друга за ошибки и ненамеренно причиненные неприятности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5f5f"/>
                </a:solidFill>
                <a:latin typeface="AGReverence-Oblique"/>
              </a:rPr>
              <a:t>выручать друг друга в трудные минуты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5f5f"/>
                </a:solidFill>
                <a:latin typeface="AGReverence-Oblique"/>
              </a:rPr>
              <a:t>вставать на защиту друга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5f5f"/>
                </a:solidFill>
                <a:latin typeface="AGReverence-Oblique"/>
              </a:rPr>
              <a:t>делиться дорогим для тебя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5f5f"/>
                </a:solidFill>
                <a:latin typeface="AGReverence-Oblique"/>
              </a:rPr>
              <a:t>ничего не жалеть для друга;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f5f5f"/>
                </a:solidFill>
                <a:latin typeface="AGReverence-Oblique"/>
              </a:rPr>
              <a:t>не требовать от друга взамен какой-то услуги.</a:t>
            </a:r>
            <a:br>
              <a:rPr sz="2800"/>
            </a:br>
            <a:br>
              <a:rPr sz="2400"/>
            </a:br>
            <a:r>
              <a:rPr b="1" lang="ru-RU" sz="2400" spc="-1" strike="noStrike">
                <a:solidFill>
                  <a:srgbClr val="5f5f5f"/>
                </a:solidFill>
                <a:latin typeface="a_AlgeriusNr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3" name="Picture 3" descr="Мужчины поддерживают друг друга"/>
          <p:cNvPicPr/>
          <p:nvPr/>
        </p:nvPicPr>
        <p:blipFill>
          <a:blip r:embed="rId1"/>
          <a:stretch/>
        </p:blipFill>
        <p:spPr>
          <a:xfrm>
            <a:off x="7524720" y="476280"/>
            <a:ext cx="1305000" cy="1841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6104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bat-Bold"/>
              </a:rPr>
              <a:t>Давайте будем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bat-Bold"/>
              </a:rPr>
              <a:t>Дружить друг с другом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bat-Bold"/>
              </a:rPr>
              <a:t>Как птица – с небом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bat-Bold"/>
              </a:rPr>
              <a:t>Как ветер – с лугом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bat-Bold"/>
              </a:rPr>
              <a:t>Как парус – с морем, 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bat-Bold"/>
              </a:rPr>
              <a:t>Трава – с дождями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bat-Bold"/>
              </a:rPr>
              <a:t>Как дружит солнце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bat-Bold"/>
              </a:rPr>
              <a:t>Со всеми нами!      И. Меднин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  <a:p>
            <a:pPr marL="26064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8080"/>
                </a:solidFill>
                <a:latin typeface="Arbat-Bold"/>
              </a:rPr>
              <a:t>В. Шекспир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5" name="Picture 4" descr="200217435-015"/>
          <p:cNvPicPr/>
          <p:nvPr/>
        </p:nvPicPr>
        <p:blipFill>
          <a:blip r:embed="rId1"/>
          <a:stretch/>
        </p:blipFill>
        <p:spPr>
          <a:xfrm>
            <a:off x="6516720" y="981000"/>
            <a:ext cx="2114640" cy="16923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3399"/>
                </a:solidFill>
                <a:latin typeface="a_BosaNova"/>
              </a:rPr>
              <a:t>До встречи!!!</a:t>
            </a:r>
            <a:endParaRPr b="0" lang="en-US" sz="8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7" name="Picture 4" descr="pict01, дружба"/>
          <p:cNvPicPr/>
          <p:nvPr/>
        </p:nvPicPr>
        <p:blipFill>
          <a:blip r:embed="rId1"/>
          <a:stretch/>
        </p:blipFill>
        <p:spPr>
          <a:xfrm>
            <a:off x="3200400" y="2666880"/>
            <a:ext cx="2895480" cy="2895840"/>
          </a:xfrm>
          <a:prstGeom prst="rect">
            <a:avLst/>
          </a:prstGeom>
          <a:ln w="0">
            <a:noFill/>
          </a:ln>
        </p:spPr>
      </p:pic>
      <p:pic>
        <p:nvPicPr>
          <p:cNvPr id="148" name="15 Дорожка 15.mp3" descr=""/>
          <p:cNvPicPr/>
          <p:nvPr/>
        </p:nvPicPr>
        <p:blipFill>
          <a:blip r:embed="rId2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" dur="181466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34920" y="836640"/>
            <a:ext cx="583236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  </a:t>
            </a:r>
            <a:br>
              <a:rPr sz="3600"/>
            </a:br>
            <a:r>
              <a:rPr b="0" lang="ru-RU" sz="3200" spc="-1" strike="noStrike">
                <a:solidFill>
                  <a:srgbClr val="ff3399"/>
                </a:solidFill>
                <a:latin typeface="Arial Black"/>
              </a:rPr>
              <a:t>Дружба – главное чудо всегда,</a:t>
            </a:r>
            <a:br>
              <a:rPr sz="3200"/>
            </a:br>
            <a:r>
              <a:rPr b="0" lang="ru-RU" sz="3200" spc="-1" strike="noStrike">
                <a:solidFill>
                  <a:srgbClr val="ff3399"/>
                </a:solidFill>
                <a:latin typeface="Arial Black"/>
              </a:rPr>
              <a:t>Сто открытий для всех нас таящее,</a:t>
            </a:r>
            <a:br>
              <a:rPr sz="3200"/>
            </a:br>
            <a:r>
              <a:rPr b="0" lang="ru-RU" sz="3200" spc="-1" strike="noStrike">
                <a:solidFill>
                  <a:srgbClr val="ff3399"/>
                </a:solidFill>
                <a:latin typeface="Arial Black"/>
              </a:rPr>
              <a:t>И любая беда –не беда</a:t>
            </a:r>
            <a:br>
              <a:rPr sz="3200"/>
            </a:br>
            <a:r>
              <a:rPr b="0" lang="ru-RU" sz="3200" spc="-1" strike="noStrike">
                <a:solidFill>
                  <a:srgbClr val="ff3399"/>
                </a:solidFill>
                <a:latin typeface="Arial Black"/>
              </a:rPr>
              <a:t>Если рядом друзья настоящие!</a:t>
            </a:r>
            <a:endParaRPr b="1" lang="en-US" sz="3200" spc="-1" strike="noStrike">
              <a:solidFill>
                <a:srgbClr val="00496e"/>
              </a:solidFill>
              <a:latin typeface="Arial"/>
            </a:endParaRPr>
          </a:p>
        </p:txBody>
      </p:sp>
      <p:sp>
        <p:nvSpPr>
          <p:cNvPr id="90" name="Выноска-облако 3"/>
          <p:cNvSpPr/>
          <p:nvPr/>
        </p:nvSpPr>
        <p:spPr>
          <a:xfrm>
            <a:off x="2050920" y="4581360"/>
            <a:ext cx="4897440" cy="14050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324000" y="260280"/>
            <a:ext cx="84247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Выноска-облако 5"/>
          <p:cNvSpPr/>
          <p:nvPr/>
        </p:nvSpPr>
        <p:spPr>
          <a:xfrm>
            <a:off x="0" y="-387360"/>
            <a:ext cx="2952720" cy="1773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cc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00496e"/>
                </a:solidFill>
                <a:latin typeface="Bookman Old Style"/>
              </a:rPr>
              <a:t>Дружба – это…</a:t>
            </a:r>
            <a:br>
              <a:rPr sz="4000"/>
            </a:br>
            <a:endParaRPr b="1" lang="en-US" sz="4000" spc="-1" strike="noStrike">
              <a:solidFill>
                <a:srgbClr val="00496e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980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000099"/>
                </a:solidFill>
                <a:latin typeface="Bookman Old Style"/>
              </a:rPr>
              <a:t>отношения, основанные на взаимной привязанности, доверии, духовной близости, общности интересов.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5" name="Picture 5" descr="Словарь-1"/>
          <p:cNvPicPr/>
          <p:nvPr/>
        </p:nvPicPr>
        <p:blipFill>
          <a:blip r:embed="rId1"/>
          <a:stretch/>
        </p:blipFill>
        <p:spPr>
          <a:xfrm rot="20464200">
            <a:off x="708120" y="3711240"/>
            <a:ext cx="1671480" cy="220968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2" descr=""/>
          <p:cNvPicPr/>
          <p:nvPr/>
        </p:nvPicPr>
        <p:blipFill>
          <a:blip r:embed="rId2"/>
          <a:stretch/>
        </p:blipFill>
        <p:spPr>
          <a:xfrm>
            <a:off x="463680" y="4267080"/>
            <a:ext cx="8242200" cy="970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Ожегов С"/>
          <p:cNvPicPr/>
          <p:nvPr/>
        </p:nvPicPr>
        <p:blipFill>
          <a:blip r:embed="rId3"/>
          <a:stretch/>
        </p:blipFill>
        <p:spPr>
          <a:xfrm rot="779400">
            <a:off x="6244920" y="3612960"/>
            <a:ext cx="1905120" cy="2286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7434"/>
                </a:solidFill>
                <a:latin typeface="Arbat-Bold"/>
              </a:rPr>
              <a:t>Какими качествами должен обладать друг?</a:t>
            </a:r>
            <a:r>
              <a:rPr b="1" lang="ru-RU" sz="4000" spc="-1" strike="noStrike">
                <a:solidFill>
                  <a:srgbClr val="007434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496e"/>
              </a:solidFill>
              <a:latin typeface="Arial"/>
            </a:endParaRPr>
          </a:p>
        </p:txBody>
      </p:sp>
      <p:pic>
        <p:nvPicPr>
          <p:cNvPr id="99" name="Picture 4" descr="Что такое настоящая дружба?"/>
          <p:cNvPicPr/>
          <p:nvPr/>
        </p:nvPicPr>
        <p:blipFill>
          <a:blip r:embed="rId1"/>
          <a:stretch/>
        </p:blipFill>
        <p:spPr>
          <a:xfrm rot="19537200">
            <a:off x="1263240" y="3673440"/>
            <a:ext cx="1575000" cy="2286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326880" y="1982160"/>
            <a:ext cx="8624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0c0"/>
                </a:solidFill>
                <a:latin typeface="Book Antiqua"/>
              </a:rPr>
              <a:t>    </a:t>
            </a:r>
            <a:r>
              <a:rPr b="1" i="1" lang="ru-RU" sz="4800" spc="-1" strike="noStrike">
                <a:solidFill>
                  <a:srgbClr val="333399"/>
                </a:solidFill>
                <a:latin typeface="Book Antiqua"/>
              </a:rPr>
              <a:t>« Людей привлекает в теб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Book Antiqua"/>
              </a:rPr>
              <a:t> </a:t>
            </a:r>
            <a:r>
              <a:rPr b="1" i="1" lang="ru-RU" sz="4800" spc="-1" strike="noStrike">
                <a:solidFill>
                  <a:srgbClr val="333399"/>
                </a:solidFill>
                <a:latin typeface="Book Antiqua"/>
              </a:rPr>
              <a:t>именно то, что теб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Book Antiqua"/>
              </a:rPr>
              <a:t>привлекает в людях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://www.breastfeedingmomsunite.com/wp-content/uploads/2009/09/368565_blog.jpg"/>
          <p:cNvPicPr/>
          <p:nvPr/>
        </p:nvPicPr>
        <p:blipFill>
          <a:blip r:embed="rId1"/>
          <a:stretch/>
        </p:blipFill>
        <p:spPr>
          <a:xfrm>
            <a:off x="749160" y="1768320"/>
            <a:ext cx="7540920" cy="4357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http://stat8.blog.ru/lr/0a278f4f01c3ce52c4ee53e874a7e8b4"/>
          <p:cNvPicPr/>
          <p:nvPr/>
        </p:nvPicPr>
        <p:blipFill>
          <a:blip r:embed="rId2"/>
          <a:stretch/>
        </p:blipFill>
        <p:spPr>
          <a:xfrm>
            <a:off x="4356000" y="0"/>
            <a:ext cx="2349720" cy="2349360"/>
          </a:xfrm>
          <a:prstGeom prst="rect">
            <a:avLst/>
          </a:prstGeom>
          <a:ln w="0">
            <a:noFill/>
          </a:ln>
        </p:spPr>
      </p:pic>
      <p:sp>
        <p:nvSpPr>
          <p:cNvPr id="103" name="Выноска-облако 5"/>
          <p:cNvSpPr/>
          <p:nvPr/>
        </p:nvSpPr>
        <p:spPr>
          <a:xfrm>
            <a:off x="250920" y="0"/>
            <a:ext cx="2952720" cy="1773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cc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Упраж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«Поводыр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457200" y="1859760"/>
            <a:ext cx="8077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8000"/>
                </a:solidFill>
                <a:latin typeface="Bookman Old Style"/>
              </a:rPr>
              <a:t>«Составьте пословицу, поговорку и мысль мудрых людей о дружбе»</a:t>
            </a:r>
            <a:r>
              <a:rPr b="0" i="1" lang="ru-RU" sz="4400" spc="-1" strike="noStrike">
                <a:solidFill>
                  <a:srgbClr val="009900"/>
                </a:solidFill>
                <a:latin typeface="Bookman Old Sty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5"/>
          <p:cNvSpPr txBox="1"/>
          <p:nvPr/>
        </p:nvSpPr>
        <p:spPr>
          <a:xfrm>
            <a:off x="1676520" y="1143000"/>
            <a:ext cx="5943600" cy="38088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ArchUp">
              <a:avLst>
                <a:gd name="adj" fmla="val 108000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3276720" y="3860640"/>
            <a:ext cx="2361960" cy="1827360"/>
          </a:xfrm>
          <a:prstGeom prst="rect">
            <a:avLst/>
          </a:prstGeom>
          <a:ln w="0">
            <a:noFill/>
          </a:ln>
        </p:spPr>
      </p:pic>
      <p:pic>
        <p:nvPicPr>
          <p:cNvPr id="107" name="12 Дорожка 12.mp3" descr=""/>
          <p:cNvPicPr/>
          <p:nvPr/>
        </p:nvPicPr>
        <p:blipFill>
          <a:blip r:embed="rId2"/>
          <a:stretch/>
        </p:blipFill>
        <p:spPr>
          <a:xfrm>
            <a:off x="86868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62373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685800"/>
            <a:ext cx="41907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. Не имей сто рублей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419720" y="685800"/>
            <a:ext cx="4495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а имей сто друз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0880" y="2133720"/>
            <a:ext cx="4191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. Крепкую дружбу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4419720" y="2286000"/>
            <a:ext cx="4190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434"/>
                </a:solidFill>
                <a:latin typeface="Arial"/>
              </a:rPr>
              <a:t>и топором не разрубишь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380880" y="3733920"/>
            <a:ext cx="4191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3. Друзья познаю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4572000" y="3809880"/>
            <a:ext cx="4191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434"/>
                </a:solidFill>
                <a:latin typeface="Arial"/>
              </a:rPr>
              <a:t>в бе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0"/>
          <p:cNvSpPr/>
          <p:nvPr/>
        </p:nvSpPr>
        <p:spPr>
          <a:xfrm>
            <a:off x="457200" y="5029200"/>
            <a:ext cx="4191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4. Дружба как стекл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4648320" y="4800600"/>
            <a:ext cx="4190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434"/>
                </a:solidFill>
                <a:latin typeface="Arial"/>
              </a:rPr>
              <a:t>разобьешь – не сложи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2514600" y="384840"/>
            <a:ext cx="306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словицы и поговор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560" y="1523880"/>
            <a:ext cx="41907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5. «Трусливый друг - страшнее врага,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4419720" y="2362320"/>
            <a:ext cx="4495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7434"/>
                </a:solidFill>
                <a:latin typeface="Arial"/>
              </a:rPr>
              <a:t>ибо врага опасаешься, а на друга надеешьс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743200" y="3962520"/>
            <a:ext cx="4191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Лев  Николаевич Толс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1" descr="толстой"/>
          <p:cNvPicPr/>
          <p:nvPr/>
        </p:nvPicPr>
        <p:blipFill>
          <a:blip r:embed="rId1"/>
          <a:srcRect l="0" t="11784" r="0" b="0"/>
          <a:stretch/>
        </p:blipFill>
        <p:spPr>
          <a:xfrm>
            <a:off x="380880" y="2971800"/>
            <a:ext cx="2195640" cy="27399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6"/>
          <p:cNvSpPr/>
          <p:nvPr/>
        </p:nvSpPr>
        <p:spPr>
          <a:xfrm>
            <a:off x="2971800" y="71676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ысли мудрых люд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09:21:16Z</dcterms:created>
  <dc:creator>vneuroka.ru</dc:creator>
  <dc:description/>
  <dc:language>en-US</dc:language>
  <cp:lastModifiedBy>Макс</cp:lastModifiedBy>
  <dcterms:modified xsi:type="dcterms:W3CDTF">2015-01-19T14:47:43Z</dcterms:modified>
  <cp:revision>105</cp:revision>
  <dc:subject/>
  <dc:title>Слайд 1</dc:title>
</cp:coreProperties>
</file>