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jpeg" ContentType="image/jpeg"/>
  <Override PartName="/ppt/media/image6.gif" ContentType="image/gif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746B-5E20-49FF-8433-7056FEB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39F-1F14-4D93-A923-9148D552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2D7FF-423C-4C24-A7EB-AE7A30E4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5CDF7-8829-4D37-AB01-DA6BB25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06384-D391-4B39-8230-2F9E0F4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6110F-EB46-4D3A-ACC0-39D4771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216D-4360-4419-89A9-D983BEAF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99C21-FE8E-4283-9E33-C0EB418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A10D4-CE7F-43E0-9FFB-C9741D5D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ABEC6-C4AC-4756-BC6C-DBD507001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8CDC1-4CEF-432C-B001-CC52FC10E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CAA89-4593-4294-9819-0B833C16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2A9-3707-438C-B6E6-5830590F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BA74A-CCF8-441F-BE7A-61793359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28336-FA01-4A6F-998E-4801AC90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B9324-F384-457B-933D-525E089F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E4536-057F-4A41-9769-6294377E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98243-04CB-494F-8F7B-436EE17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EC97E-E21E-4270-933B-DCC1CE49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E8694-0C0A-4A47-8784-ACF4C155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53702-9B9F-4C7E-8492-67C6CBB4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7F623-9709-4A77-8FE6-85A035F3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3A147-5852-4173-B946-855B9555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9F9-8CC9-48F1-BF97-7DA38A94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3BE1C-7C5B-4C78-AAE7-2E170619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633CB-5D9F-4FEF-AB7B-06778735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DCF94-EAEB-4F73-B71E-6461F1F3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A20C8-F018-4A6B-8C26-57A0D756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6BB5A-EEE0-4F6A-8671-80FDA784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B98CC-715B-4AA9-99EC-60AAFD9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D382-F79B-432F-B053-427CDBC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9CC22-1BD4-4380-BB1C-7CE56740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99432-A760-4F19-B24F-F128CCEA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A9800-90D9-44C9-BD11-DC8A141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0561-F82B-451D-A4AE-81F16942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66B8E-E02E-4E2D-B19B-1E32BDEF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934C3-707E-431E-A5F5-6793DC08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17F35-21D4-41E1-9C54-7D997138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D2341-9607-43CC-A458-A53932E1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FFE0A-9486-43D2-A810-210FFAAB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77538-BCAB-418B-805D-5F1975D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714DA-9CA0-4B7D-B72F-590C92ED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0435B-44D0-4F67-A90A-8A766640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5A6D9-A880-43B4-8157-1D360B13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03595-8AD9-4DEC-998E-7EBF83FF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3B16-46DC-47E7-B172-FA928A9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3B9E4-67D1-4573-B3F6-991520B5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F886E-0E0E-451A-A1B4-7202BFB2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0B567C-C205-4F08-AAC8-96792776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2EF9DB-BC39-425F-88AA-3524D0E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ABD59-AC12-4AB6-AE28-088E7AA4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41E1E-0669-4D54-AA37-859E0FD0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C19AA-E15A-473D-831D-EAA0E790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82BD4-DDBA-42AD-95A7-6679B290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06CA0-E512-433B-95AC-4B60EEB0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C9B2B-8950-443C-AB30-5314711B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58A8-7D88-428C-BA37-BAE24B29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5DB98-4E0B-4D96-9F15-7AD19586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D2F72-64E5-4366-B828-66E80B87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870B3-E73F-4A3C-A63B-87AD13E0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97DA5-93E6-4A6B-B78A-E76004EF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259DD-6362-4EC9-9A7B-A8FB070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CEC3F-D465-4E34-8DF8-583590CF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701AAC-7327-46B6-A56D-6B7BB863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F3DC-9197-45F1-B8E5-4DECE914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9F83-08D7-42DB-8ECF-5E2A8EF6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C4BA-EB99-4A2D-9097-295FB7F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66F0-BC76-490B-A0DD-D46E33F2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0033-B472-4FBE-BBBC-E0622227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E545-EF4C-4C9F-A0DE-9A96167D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87FF-F919-4C8F-9A3E-D415A75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257-A2DF-4650-8403-62BFD972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BB94-F741-4CEE-A379-6C3BF78D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C092-86D7-465C-8F9F-BA588049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682C-FB70-403E-B916-820FC705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43E5-45B1-4523-921F-8DD4EDB8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B824-0556-46C7-9759-6A201B67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B7BD-53A2-4A37-8B5A-3C04C63FE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25DB4-F7AB-42EE-A769-3227BC2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DB4E-5EC7-4097-AEEE-4FFA65C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05D2F-A3EF-40E2-BC42-1341A2DF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3424-AF16-423D-886D-AB555FA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7B8A-2B29-487D-8405-F41F3A2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525A-6AC6-48F0-B4EF-71848621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0BEC6-31FD-45AE-8F6F-1B4492D5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8F73-3695-4FF8-9DF3-BD2E4A4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73BCF-B85F-4957-9460-6E2CA917E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9093C-4C07-4EE2-A919-62DAB539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5FCB8-8B71-43BF-BD22-8C864F77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8528-B867-4476-BAE0-2A3AD3D1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4E3-6B0E-4494-9207-916A3797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89749-B874-407F-BBA8-57D93131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4ABC7-E7A7-45C1-BF22-157967D2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EF97E-1F6F-4C9A-80C4-1510EA334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A7715-1B04-4D12-8510-8228F40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791C-E726-4681-9266-AAF72079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E5B80-51F8-40F9-A0FC-F8AEA2B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581E8-C1F6-40D0-8CEC-7B592986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5A868-C7E6-468B-982E-1BD70561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66BA-B073-4082-995B-F347EDE0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8EB5B-D6FA-4C0F-B8EC-4C0EB913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8A32-F59B-41A8-AFC0-346EDD6D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5F60A-E77C-4225-95ED-0AB91DAD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E3481-55FA-455E-81CD-50CC1A6C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32324-7337-408C-9044-66B8B34A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F722D-B3C2-4CF7-AC06-D2524FD7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BBAD6-C57C-4761-B079-6148312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2D258-8B2D-43A4-9ED1-A5BECD1C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8159-E85D-42A1-AB88-CC33991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2476E-EF73-41E2-B0E8-458B3C3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17ED9-795D-4273-8152-D9397E5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228D-7187-4AED-8FF9-D1CD7EA5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73D-81F7-4B88-9885-D9C84E2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6796D-C6C0-455C-8490-49EE0341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B7E4-6086-4BE7-A4A9-8994099A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B5BFC-AC56-47AD-BD20-D4517935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C904C-9244-48C0-8F55-9FCE8E61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69596-7502-4FC0-AACB-1C08E037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0679E-E6FD-4576-9C00-18377BCC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EAC10-437D-463A-8620-2B1E65E0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EA2CB-F314-4319-8E1C-37C61CD5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1D9C-CF2B-4CED-9FC3-64E00ED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97F4E-2C28-4C3F-8354-527FA0DA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A4FF-C57C-449F-91E9-A5A42228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31ED7-3E84-4E6A-8CDC-488EF1F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75BB2-E1D0-48E6-B35A-425E130B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E9C4-F8F4-4528-8F3B-5627B265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9030-DD69-4FAC-A945-2F569E9F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EE307-7264-4598-B061-02F109D2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5D89D-31E1-454D-ABD2-38D2A09C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0736D-092E-477B-AB3D-0127624B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C285A-D9FB-418B-9F1B-10BA69B3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84656-A32A-465F-B823-0F414B2A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76BB-FB3E-4C51-83BA-11281192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81B5-E1A9-45FC-A940-038626C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93D0A-889A-4DDC-8242-A5547F1E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94198-6326-4806-AED0-9DEAA2C0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AAE6-1D9F-4D65-ADC1-666D129B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3EB5C-2EF4-4BDE-AFB6-1AE86503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7934-0EF7-4DE9-949F-384281F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04556-AA63-46F7-A289-3B4DA4C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582F6-9E2B-4934-9BE5-E04D6B6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64E67-08F3-44F8-97F3-AA00E86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D8536-63A5-4AB6-9CAE-C062A340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FCF7-5909-4F42-971B-753C4C54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BC9-773E-49D7-A6BF-7E6DC2AA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B8AA-E8EC-4637-872F-8E4973485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24B7-7EF9-470E-A3A3-165371C5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1B31F-515D-462F-82B1-33757C7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8C38-E310-49BF-89D0-8E51D5D6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EA215-406A-41FD-AF5C-7BBCE021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5C568-F32D-4BD7-8F0E-6A4E7B54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D0A60-C039-4457-B7C2-1B4C1822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D8413-C666-4451-931F-667B174C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AB17B-3881-4B52-8270-CBFC1A48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5AD65-2510-4485-87B3-F1B99D5E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E9A0-F1B8-4056-B9CB-A366461692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037D-05FB-47FC-93C4-F921B901CA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D7AC-E6A6-4659-B52A-ED500CF2137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0983-0034-430D-BB8B-C0D130B4E47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B202-E958-49CE-957E-F45A85ECCF6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E3F3-3523-4895-AB30-9ACB829485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B85F-F44C-4B96-8AA7-2FE2A52146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ED5E-AA16-4D66-843B-79AEC3D1E8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F75A-2F89-4E7E-98F6-C32D5BBF4F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AB5-4F44-4152-9773-FF815F481C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7613-C829-4D51-8993-F517B3A99A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5F86-BD68-465A-AB54-D6DB538525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1551-C545-42C0-8713-8491088513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hyperlink" Target="http://www.calend.ru/img/content_images/i0/176_or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3600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33"/>
                </a:solidFill>
                <a:latin typeface="Arial"/>
              </a:rPr>
              <a:t>НРАВСТВЕННЫЙ КЛАССНЫЙ ЧАС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39280" y="169992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«ВВЕРХ ПО ЛЕСТНИЦЕ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990099"/>
                </a:solidFill>
                <a:latin typeface="Times New Roman"/>
              </a:rPr>
              <a:t>МОИ НРАВСТВЕННЫЕ ЦЕННОСТ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4" descr="az1phsy96sbuv6"/>
          <p:cNvPicPr/>
          <p:nvPr/>
        </p:nvPicPr>
        <p:blipFill>
          <a:blip r:embed="rId1"/>
          <a:stretch/>
        </p:blipFill>
        <p:spPr>
          <a:xfrm>
            <a:off x="684360" y="3276720"/>
            <a:ext cx="34560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азвания вещей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чатная машинка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утерброд с красной икро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шка, живущая в доме 10 лет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рое военное фото бабушки и дедуш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едали деда-фронтовик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ковая шуб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кг конфет «Белочка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0802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ывод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3745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ность – это все то, что значимо для жизни человека и людей в этом   обществ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цена – это стоимость чего – либо, выраженная в денежных единица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ть вещи, которые не продаются – они дороги как памят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крайнем случае, можно отдать в муз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4" descr="yuig87y9xbsb6qj5ag9"/>
          <p:cNvPicPr/>
          <p:nvPr/>
        </p:nvPicPr>
        <p:blipFill>
          <a:blip r:embed="rId1"/>
          <a:stretch/>
        </p:blipFill>
        <p:spPr>
          <a:xfrm>
            <a:off x="5651640" y="4363920"/>
            <a:ext cx="3108240" cy="2424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1"/>
          <p:cNvPicPr/>
          <p:nvPr/>
        </p:nvPicPr>
        <p:blipFill>
          <a:blip r:embed="rId2"/>
          <a:stretch/>
        </p:blipFill>
        <p:spPr>
          <a:xfrm>
            <a:off x="324000" y="4487760"/>
            <a:ext cx="3384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Игра «Я – волшебник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Я все могу, я – волшебник, я в вашем доме могу поменять все неживое, но я добрый волшебник, поэтому одну-единственную вещь я могу оставить неизменной. Выбирайте, какую»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Вещи, которые ребята не поменяли бы никогда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2887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фотографии близких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исьма от матери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идеокассеты с записями своего детства и событий из жизни семьи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Picture 4" descr="8029083rain7tu1"/>
          <p:cNvPicPr/>
          <p:nvPr/>
        </p:nvPicPr>
        <p:blipFill>
          <a:blip r:embed="rId1"/>
          <a:stretch/>
        </p:blipFill>
        <p:spPr>
          <a:xfrm>
            <a:off x="6732720" y="4437000"/>
            <a:ext cx="2247840" cy="220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День матери России"/>
          <p:cNvPicPr/>
          <p:nvPr/>
        </p:nvPicPr>
        <p:blipFill>
          <a:blip r:embed="rId2"/>
          <a:stretch/>
        </p:blipFill>
        <p:spPr>
          <a:xfrm>
            <a:off x="6210360" y="1413000"/>
            <a:ext cx="2933640" cy="195552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Наши ветераны, День Победы, С-Петербург, Росс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581360"/>
            <a:ext cx="316872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Легенд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69080" cy="4472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дной из стран, неважно в какой, жила одна старушка. Многие годы она ходила с палочкой по пляжу в разгар летнего сезона. Многие люди недоумевали и не понимали, что она ищет в песке, разгребая его палкой. Только спустя годы люди узнали, что в течение многих лет она ходила по пляжу с одной лишь целью – она собирала осколки битого стекла, чтобы взрослые и дети не поранилис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опросы учащимс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го ли достигла в жизни эта старушк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вы думаете, каков был ее путь по лестнице жизн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ы были ее жизненные ценности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Минута откровен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а небольшой отрезок своей жизни вы сделали достаточно много жизненных шагов. Попробуйте определить, какие из них были значимыми, важными, которые вы можете сравнить с поступками старушки, а о каких вам не хотелось бы вспоминать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Закончите фразу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успевающий в жизни челове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– неудачник – это человек, который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не имеет ….., то он не состоялся.( прожил жизнь зр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человек имеет….., то он состоял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4" descr="nhl"/>
          <p:cNvPicPr/>
          <p:nvPr/>
        </p:nvPicPr>
        <p:blipFill>
          <a:blip r:embed="rId1"/>
          <a:stretch/>
        </p:blipFill>
        <p:spPr>
          <a:xfrm>
            <a:off x="6012000" y="189000"/>
            <a:ext cx="2954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24000" y="609480"/>
            <a:ext cx="8640720" cy="15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Благодарим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10" name="Picture 4" descr="poki44743"/>
          <p:cNvPicPr/>
          <p:nvPr/>
        </p:nvPicPr>
        <p:blipFill>
          <a:blip r:embed="rId1"/>
          <a:stretch/>
        </p:blipFill>
        <p:spPr>
          <a:xfrm>
            <a:off x="539640" y="3355920"/>
            <a:ext cx="38880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4248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судить с учащимися понятия «ценности», «цена», их буквальное и переносное значение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вать у учащихся умение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смысливать и определять для себя мнимые и истинные цен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-252720" y="333360"/>
            <a:ext cx="9396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ПИГРАФ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Ценности – общее название для мнимых ценностей, имеющих   свою цену, и для ценностей подлинных, которые становятся мнимыми, как только им назначается цена»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Из книги В.Г. Кротова «Массаж мысл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7" name="Picture 15" descr="bcd991807e6d4baf6d5b4c9e0de6726d"/>
          <p:cNvPicPr/>
          <p:nvPr/>
        </p:nvPicPr>
        <p:blipFill>
          <a:blip r:embed="rId1"/>
          <a:stretch/>
        </p:blipFill>
        <p:spPr>
          <a:xfrm>
            <a:off x="6191280" y="4221000"/>
            <a:ext cx="1855800" cy="222264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6" descr="176633534900000017vw3"/>
          <p:cNvPicPr/>
          <p:nvPr/>
        </p:nvPicPr>
        <p:blipFill>
          <a:blip r:embed="rId2"/>
          <a:stretch/>
        </p:blipFill>
        <p:spPr>
          <a:xfrm>
            <a:off x="468360" y="4492800"/>
            <a:ext cx="31669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583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УСЛОВИЯ ВЕДЕНИЯ ДИАЛОГА: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т неправильных мн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один говорит – другие слушаю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кто ни к кому не присоединяется. Можно сказать то же самое, но другими слова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964720" cy="554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аждого человека, маленького и большого, взрослого и ребенка есть удивительная возможность – возможность мечтать. Пока человек живет, он всегда о чем-то мечтает. Иногда его мечты становятся явью, превращаясь в жизненные цели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авайте представим себе нашу жизнь в виде лестницы, по которой мы идем вверх, в будущее, во взрослую жизнь. Ваше право – выбрать, какой будет ваша лестница, большая или маленькая, из каких ступенек она будет состоять. Вы можете считать, что каждая ступенька – это то, к чему вы стремитесь в вашей жизни и давайте назовем эту лестницу лестницей желан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820000" cy="612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нимаясь по лестнице, мы не всегда идем уверенно, можем ошибаться, можем оступиться и даже упасть. В жизни тоже бывает всякое: нас сопровождают болезни, разочарования и даже потери. Наш подъем зависит во многом от того, как мы будем вести себя по отношению к другим людям, которые идут вместе с нами по лестнице: будем толкаться, переступать через кого-то, пропускать вперед, идти ря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вайте попробуем подумать над тем, каким будет наше движени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3" name=""/>
          <p:cNvGraphicFramePr/>
          <p:nvPr/>
        </p:nvGraphicFramePr>
        <p:xfrm>
          <a:off x="250920" y="260280"/>
          <a:ext cx="8642160" cy="6572160"/>
        </p:xfrm>
        <a:graphic>
          <a:graphicData uri="http://schemas.openxmlformats.org/drawingml/2006/table">
            <a:tbl>
              <a:tblPr/>
              <a:tblGrid>
                <a:gridCol w="423720"/>
                <a:gridCol w="3900600"/>
                <a:gridCol w="4317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о материальные предметы (шуба, машин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ьшинство – это духовные предметы, или материальные предметы, имеющие ценность для человека или общества (воспоминания, фотографии, письма, произведения искусства и т.д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за пределами человека, независимо от н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ет в отношении человека к чему-либ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подвергается захвату и насилию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льзя захватить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ловек может умереть, но ценности остаются в памя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исчерпаем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еет вещь – цена снижаетс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 стареет, она неисчерпаема, не сгорает, не тонет и т.д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а сохраняет себя (обмен яблоками – у каждого оказалось опять по одному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 обмене ценность увеличивается (обмен идеями – стало у каждого по две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а всегда заменима (товар – товар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нность незамени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вая ценности, мы все равно отправимся в мир цены: купить краску, кисточку, если ценна картина, или пленку, фотобумагу, если – фотографии близких. Отправившись в мир цены, надо не забыть вернуться в мир ценностей. В мире цены счастлив не будешь. Роскошь развращает. Мы хотим кушать – можно наесться хлебом с солью и все. А нам хочется с семгой, с икрой. Важно не подчинить жизнь культу ед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гра «Купи – продай».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54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пределить, что имеет ценность, а что – цену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ловия игры: и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 в парах, задача одного – уговорить продать вещь. Другой должен как можно дольше сопротивляться, выдвигая веские аргумен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08:13:38Z</dcterms:created>
  <dc:creator>Евгений</dc:creator>
  <dc:description/>
  <dc:language>en-US</dc:language>
  <cp:lastModifiedBy>Admin</cp:lastModifiedBy>
  <dcterms:modified xsi:type="dcterms:W3CDTF">2011-08-28T11:28:06Z</dcterms:modified>
  <cp:revision>13</cp:revision>
  <dc:subject/>
  <dc:title>НРАВСТВЕННЫЙ КЛАССНЫЙ ЧАС </dc:title>
</cp:coreProperties>
</file>