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A6F4-61C1-4C1E-A54E-6CDDB6F150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629D-5FE1-4A91-8F21-EC64DE83D5F1}" type="slidenum">
              <a:rPr b="0" lang="ru-RU" sz="12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F73-4D30-446C-A668-10A697571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40E3-97F0-4D4E-A70F-02E91FF0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9A8-8406-4C70-9931-A11C8B8D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7EFA-1D15-487A-8085-82D1184D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2D937-60F3-44E7-A830-92EC334A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D2B4C-0E6F-4DFA-ADC2-246915B4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AE3EE-36AE-41E7-B92E-AB23CEC9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350AB-3921-4147-A290-55695DE9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31F39-1018-4F58-8FA6-B3EC123D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7969B-F57D-49FB-96BF-10A4D3C4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27C20-EB19-43FC-A0A6-24E9452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2AF4-AF4A-4867-8CAA-AB7598B5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0F733-84F4-45CF-BA49-B9EF508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19BFA-B397-4147-8242-2866211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BCA5D-BA44-4C79-BE19-DAA642C5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862CB-103C-4181-8856-795E2679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332C8-C89C-49E2-8A6B-13EBF795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425-2973-4674-B8E6-7D303A23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A1B-01DC-4AD8-A890-B8879D5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876-AD97-42FF-871A-09E5DB66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F53-9F39-4D58-8A46-4D8A331C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B79-BDD3-4831-8CB1-F0C7AB8A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23F-959F-43AF-AAB3-155566A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2F8-8494-4A1F-B658-1655D6A3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460-DDE0-4840-AB02-3C90A139DA77}" type="slidenum">
              <a:rPr b="0" lang="ru-RU" sz="1200" spc="-1" strike="noStrike">
                <a:solidFill>
                  <a:srgbClr val="d4d2d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2d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2d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2CA8-5BBE-4C62-BD36-D1B3E5DAE2E5}" type="slidenum">
              <a:rPr b="0" lang="ru-RU" sz="1200" spc="-1" strike="noStrike">
                <a:solidFill>
                  <a:srgbClr val="d4d2d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2d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4d2d0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0040" y="1714680"/>
            <a:ext cx="6386400" cy="1218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58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entury Schoolbook"/>
              </a:rPr>
              <a:t>Холокост. Память поколений</a:t>
            </a:r>
            <a:endParaRPr b="0" lang="en-US" sz="6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69" name="Рисунок 6" descr="1077237_1215596783.jpg"/>
          <p:cNvPicPr/>
          <p:nvPr/>
        </p:nvPicPr>
        <p:blipFill>
          <a:blip r:embed="rId1"/>
          <a:stretch/>
        </p:blipFill>
        <p:spPr>
          <a:xfrm>
            <a:off x="6291360" y="1731960"/>
            <a:ext cx="241920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3" descr="5900ac91.jpg"/>
          <p:cNvPicPr/>
          <p:nvPr/>
        </p:nvPicPr>
        <p:blipFill>
          <a:blip r:embed="rId1"/>
          <a:srcRect l="6003" t="0" r="6003" b="0"/>
          <a:stretch/>
        </p:blipFill>
        <p:spPr>
          <a:xfrm>
            <a:off x="714240" y="428760"/>
            <a:ext cx="5929560" cy="44463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57120" y="5214960"/>
            <a:ext cx="878688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3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Бабий Яр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(укр. </a:t>
            </a:r>
            <a:r>
              <a:rPr b="0" i="1" lang="ru-RU" sz="1800" spc="-1" strike="noStrike">
                <a:solidFill>
                  <a:srgbClr val="ffffff"/>
                </a:solidFill>
                <a:latin typeface="Century Schoolbook"/>
              </a:rPr>
              <a:t>Бабин Яр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) — урочище в северно-западной части Киева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олучил всемирную известность как место массовых расстрелов гражданского населения, главным образом евреев, и советских военнопленных, осуществлявшихся немецкими оккупационными войсками в 1941 году  Всего было расстреляно, от 33 тысяч до 100 тысяч человек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Рисунок 3" descr="BabiyYar01.jpg"/>
          <p:cNvPicPr/>
          <p:nvPr/>
        </p:nvPicPr>
        <p:blipFill>
          <a:blip r:embed="rId1"/>
          <a:srcRect l="0" t="7739" r="0" b="21877"/>
          <a:stretch/>
        </p:blipFill>
        <p:spPr>
          <a:xfrm>
            <a:off x="1500120" y="214200"/>
            <a:ext cx="5834160" cy="54752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214280" y="5715000"/>
            <a:ext cx="746784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 настоящее время на территории Бабьего Яра находятся несколько памятников и мемориальных комплексов жертвам Холокоста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Рисунок 3" descr="s5674054.jpg"/>
          <p:cNvPicPr/>
          <p:nvPr/>
        </p:nvPicPr>
        <p:blipFill>
          <a:blip r:embed="rId1"/>
          <a:srcRect l="12633" t="21952" r="10844" b="21952"/>
          <a:stretch/>
        </p:blipFill>
        <p:spPr>
          <a:xfrm>
            <a:off x="214200" y="785880"/>
            <a:ext cx="4484880" cy="43956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14040" y="60199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емориалы в Бабьем Яру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93" name="Рисунок 4" descr="31803121b906.jpg"/>
          <p:cNvPicPr/>
          <p:nvPr/>
        </p:nvPicPr>
        <p:blipFill>
          <a:blip r:embed="rId2"/>
          <a:srcRect l="21874" t="10937" r="27739" b="0"/>
          <a:stretch/>
        </p:blipFill>
        <p:spPr>
          <a:xfrm>
            <a:off x="4857840" y="642960"/>
            <a:ext cx="3929040" cy="520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3" descr="TPBngzb8ET.jpg"/>
          <p:cNvPicPr/>
          <p:nvPr/>
        </p:nvPicPr>
        <p:blipFill>
          <a:blip r:embed="rId1"/>
          <a:srcRect l="0" t="131" r="0" b="131"/>
          <a:stretch/>
        </p:blipFill>
        <p:spPr>
          <a:xfrm>
            <a:off x="785880" y="285840"/>
            <a:ext cx="7467480" cy="56005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60199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амятник жертвам холокоста в Венгрии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Рисунок 3" descr="450px-Donetsk_holokost_04.jpg"/>
          <p:cNvPicPr/>
          <p:nvPr/>
        </p:nvPicPr>
        <p:blipFill>
          <a:blip r:embed="rId1"/>
          <a:srcRect l="0" t="21878" r="0" b="21878"/>
          <a:stretch/>
        </p:blipFill>
        <p:spPr>
          <a:xfrm>
            <a:off x="914400" y="295200"/>
            <a:ext cx="7467480" cy="5600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14040" y="60199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амятник жертвам холокоста в Донецке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исунок 3" descr="Jewish.jpg"/>
          <p:cNvPicPr/>
          <p:nvPr/>
        </p:nvPicPr>
        <p:blipFill>
          <a:blip r:embed="rId1"/>
          <a:srcRect l="5560" t="0" r="5560" b="0"/>
          <a:stretch/>
        </p:blipFill>
        <p:spPr>
          <a:xfrm>
            <a:off x="857160" y="357120"/>
            <a:ext cx="7467840" cy="5600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071440" y="607176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амятник жертвам холокоста в Минске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040" y="1213920"/>
            <a:ext cx="7467480" cy="518652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Международный день памяти жертв холокоста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отмечается 27 января.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становлен Генеральной Ассамблеей ООН 1 ноября 2005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Дата 27 января была выбрана потому, что в этот день советские войска освободили концентрационный лагерь Освенцим (Польша)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 своём послании израильскому президенту М. Кацаву, посвящённом впервые отмечаемому Дню памяти жертв холокоста, </a:t>
            </a: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В. В. Путин сказал: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«Вижу в этом единогласно принятом решении твердую волю мирового сообщества передать будущим поколениям правду о варварских преступлениях нацизма, защитить человечество от пороков ксенофобии, расизма и экстремизма.»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tumblr_kqw6ffQTbZ1qzamu3o1_400.jpg"/>
          <p:cNvPicPr/>
          <p:nvPr/>
        </p:nvPicPr>
        <p:blipFill>
          <a:blip r:embed="rId1"/>
          <a:srcRect l="0" t="-64" r="340" b="486"/>
          <a:stretch/>
        </p:blipFill>
        <p:spPr>
          <a:xfrm>
            <a:off x="4714920" y="1000080"/>
            <a:ext cx="4143240" cy="50720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3840" y="428760"/>
            <a:ext cx="464364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1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Холоко́ст (от англ. holocaust,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из др.-греч. ὁλοκαύστος — «всесожжение») — систематическое преследование и истребление немецкими нацистами и коллаборационистами из других стран миллионов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жертв нацизма: почти трети еврейского народа и многочисленных представителей других меньшинств, которые подвергались дискриминации, зверствам и жестоким убийствам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Рисунок 3" descr="1235687852.jpg"/>
          <p:cNvPicPr/>
          <p:nvPr/>
        </p:nvPicPr>
        <p:blipFill>
          <a:blip r:embed="rId1"/>
          <a:srcRect l="7373" t="0" r="7373" b="0"/>
          <a:stretch/>
        </p:blipFill>
        <p:spPr>
          <a:xfrm>
            <a:off x="3571920" y="2214720"/>
            <a:ext cx="5357880" cy="4017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6760" y="571680"/>
            <a:ext cx="771516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3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 английском термин «holocaust» в близких к нынешнему значениях употребляется с 1910-х годов (первоначально по отношению к геноциду армян в Османской империи и еврейским погромам во время Гражданской войны на Украине), а в современном значении истребления евреев нацистами (с прописной буквы) — с 1942 года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4" name="TextBox 4"/>
          <p:cNvSpPr/>
          <p:nvPr/>
        </p:nvSpPr>
        <p:spPr>
          <a:xfrm>
            <a:off x="357120" y="25002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Широкое распространение получил в 1950-е годы благодаря книгам будущего лауреата Нобелевско премии мира писателя Эли Визеля. В советской прессе появляется в начале 1980-х, первоначально в форме «холокауст», позже в нынешнем виде, подражающем английскому произнош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14240" y="713880"/>
            <a:ext cx="7467840" cy="38124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Отличительные черты холокоста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реднамеренная попытка полного истребления целой нации, включая мужчин, женщин и детей,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риведшая к уничтожению 60 % евреев Европы и около трети еврейского населения мира.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Кроме того, были уничтожены также от четверти до трети цыганского народа,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одвергались тотальному истреблению также чернокожие граждане Германии, 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душевнобольные и нетрудоспособные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огибли около 3 миллионов советских военнопленных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holocaust3.jpg"/>
          <p:cNvPicPr/>
          <p:nvPr/>
        </p:nvPicPr>
        <p:blipFill>
          <a:blip r:embed="rId1"/>
          <a:srcRect l="1355" t="0" r="1355" b="0"/>
          <a:stretch/>
        </p:blipFill>
        <p:spPr>
          <a:xfrm>
            <a:off x="3714840" y="500040"/>
            <a:ext cx="5097240" cy="38242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07264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6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истема, предназначенная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для массового уничтожения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людей: Во время Второй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ировой войны на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ккупированных Германией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рриториях были построены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лагеря смерти,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едназначенные для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бийства миллионов людей;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и этом технология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ничтожения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овершенствовалась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рандиозные, межнациональные масштабы истребления: на всей оккупированной Германией территории Европы жертвы преследовались и отсылались в концентрационные лагеря и лагеря уничтожения. Истребление продолжалось вплоть до перехода военных действий на территорию Германии и её последующей капитуляции в мае 1945 года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Рисунок 3" descr="inet016.jpg"/>
          <p:cNvPicPr/>
          <p:nvPr/>
        </p:nvPicPr>
        <p:blipFill>
          <a:blip r:embed="rId1"/>
          <a:stretch/>
        </p:blipFill>
        <p:spPr>
          <a:xfrm>
            <a:off x="792000" y="231840"/>
            <a:ext cx="7431120" cy="106250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57160" y="5643720"/>
            <a:ext cx="746784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4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Жестокие и часто приводящие к смерти антигуманные медицинские эксперименты, которые проводили нацисты над жертвами холокоста. 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28400" y="499680"/>
            <a:ext cx="7467480" cy="42876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сновной источник статистических данных о Катастрофе европейского еврейства — сравнение предвоенных переписей населения с послевоенными переписями и оценками.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Schoolbook"/>
              </a:rPr>
              <a:t>По оценкам «Энциклопедии Холокоста» погибло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до 3 миллионов польских евреев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1,2 миллиона советских евреев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з них 140 тысяч евреев Литвы и 70 тысяч евреев Латвии;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800 тысяч евреев – Белоруссии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560 тысяч евреев Венгр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280 тысяч — Румын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140 тысяч — Герман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100 тысяч — Голланд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80 тысяч евреев Франц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80 тысяч — Чех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70 тысяч — Словак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65 тысяч — Греции,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60 тысяч — Югославии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81" name="Рисунок 3" descr="0270110.jpg"/>
          <p:cNvPicPr/>
          <p:nvPr/>
        </p:nvPicPr>
        <p:blipFill>
          <a:blip r:embed="rId1"/>
          <a:srcRect l="0" t="17940" r="0" b="17940"/>
          <a:stretch/>
        </p:blipFill>
        <p:spPr>
          <a:xfrm>
            <a:off x="4286160" y="2928960"/>
            <a:ext cx="4515120" cy="33861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3" descr="739px-Buchenwald_Slave_Laborers_Liberation.jpg"/>
          <p:cNvPicPr/>
          <p:nvPr/>
        </p:nvPicPr>
        <p:blipFill>
          <a:blip r:embed="rId1"/>
          <a:srcRect l="0" t="3809" r="0" b="3809"/>
          <a:stretch/>
        </p:blipFill>
        <p:spPr>
          <a:xfrm>
            <a:off x="3929040" y="785880"/>
            <a:ext cx="4896000" cy="36720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2560" y="785880"/>
            <a:ext cx="371484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19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емецкое руководство создало широкую сеть различного типа лагерей. Первый концентрационный лагерь в Германии был создан почти сразу после прихода к власти Гитлера, в 1933 г.на окраине городка Дахау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 1937 г. неподалеку от Веймара был построен концлагерь Бухенвальд. Концлагерь Бухенвальд всемирно известен надписью над входом «Jedem das Seine» (каждому свое)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 конца 1930-х по 1945 г. в Бухенвальде было уничтожено более 56 тыс. человек из общего числа 250 тыс. заключенных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4429080" y="49291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Узники Бухенвальда. Во втором ряду, седьмой слева — Эли Визе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3" descr="1239373125_17095282_06.jpg"/>
          <p:cNvPicPr/>
          <p:nvPr/>
        </p:nvPicPr>
        <p:blipFill>
          <a:blip r:embed="rId1"/>
          <a:srcRect l="0" t="2195" r="0" b="2195"/>
          <a:stretch/>
        </p:blipFill>
        <p:spPr>
          <a:xfrm>
            <a:off x="3786120" y="357120"/>
            <a:ext cx="5133960" cy="38498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1280" y="642960"/>
            <a:ext cx="3786480" cy="380880"/>
          </a:xfrm>
          <a:prstGeom prst="rect">
            <a:avLst/>
          </a:prstGeom>
          <a:noFill/>
          <a:ln w="0">
            <a:noFill/>
          </a:ln>
        </p:spPr>
        <p:txBody>
          <a:bodyPr rIns="9000" anchor="t">
            <a:normAutofit fontScale="14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По приказу Генриха Гиммлера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от 27 апреля 1940 года был создан концлагерь Освенцим. 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14 июня 1940 г. сюда привезли первый транспорт — 728 поляков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На территории Польши, Чехии, Латвии и других восточноевропейских стран существовали также лагеря Майданек, Саласпилс и многие другие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Schoolbook"/>
              </a:rPr>
              <a:t>Концентрационных лагерей было около 14 тысяч.</a:t>
            </a: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6:19:01Z</dcterms:created>
  <dc:creator/>
  <dc:description/>
  <dc:language>en-US</dc:language>
  <cp:lastModifiedBy/>
  <dcterms:modified xsi:type="dcterms:W3CDTF">2018-01-26T07:32:4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9</vt:r8>
  </property>
  <property fmtid="{D5CDD505-2E9C-101B-9397-08002B2CF9AE}" pid="3" name="_TemplateID">
    <vt:lpwstr>TC101769231049</vt:lpwstr>
  </property>
  <property fmtid="{D5CDD505-2E9C-101B-9397-08002B2CF9AE}" pid="4" name="_Version">
    <vt:lpwstr>12.0.4518</vt:lpwstr>
  </property>
</Properties>
</file>