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wmf" ContentType="image/x-wmf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5BAB-BE32-4D10-A862-452CCC657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4DA6-1FB5-4017-8790-7D562B087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0CBB-1562-433C-8E47-54ED56E82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CC5-772F-4C0B-B086-B6841B98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79E-A901-45C8-9FB2-7C20601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ABC-3791-4DA8-A8A4-1896CCCA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5DB-6C2A-4847-917A-33471993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055A-5874-4C18-AFA7-DCA79F96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30DA-B596-40F7-B5F3-C39560B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CBD7-45CA-40F9-A131-061FAF6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502F-EC22-4560-9584-312C2E1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D6B-3A69-4832-9F8B-8C56CC2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EFA6-AA63-4E73-8881-AB7D5A1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2FF7-BF0F-4C82-AC27-7260B91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033-49F9-4B12-8EAE-47FB802C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638-D99C-4F76-B886-CC2F528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67CB-E0F0-46FF-A635-8C0F3A8C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83C7-1F43-4FA4-B557-95D0791A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45AE-4A7B-4705-B1FD-0069F4AC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817-9B4D-46A9-BE05-9586739C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48169-D009-4E05-BF45-6F9CC29E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EBE94-0EF0-4B6B-B6EF-FAF5867B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499E5-EB58-4567-9E81-6261B11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39D3F-5512-42D0-BE86-5CBFC09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6727F-CCFF-4334-AFAD-81292F0A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139-EC35-47AA-8DB0-95310B48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1B256-85E9-4A24-B1D2-259B8461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C3A61-5E32-4064-9A67-A6EE7CB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3D9E6-548D-40FD-ABA9-35214DE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AB5CF-B16B-4EEA-8D02-944A10B3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7ABD4-303A-4E74-9753-963C694B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6CF4F-CD46-4DF8-A3FC-80179779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713D7-5ABB-4EAD-9231-981059AE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E64-19F9-430C-A15A-56260B2F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AB8-83CC-4D11-B2A4-6CDD9E7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4AE-75C3-4C1D-9C8F-4B209A6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554-8546-45E5-8323-63C7E00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AA5-A0CA-4BEB-A575-1A7D976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B64-6452-403D-BF5A-B4DB3C0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CFD9-894E-4494-B4CC-C32360D76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7BDF-79AA-468B-BBC9-915EF1F8FBE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2A43-F02A-41C8-8F6F-6765F9251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/src/190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upload.wikimedia.org/wikipedia/commons/9/9d/Marshals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www.ljplus.ru/img4/s/u/suanova/14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5;&#1072;&#1087;&#1072;&#1076;&#1077;&#1085;&#1080;&#1077;%20&#1043;&#1080;&#1090;&#1083;&#1077;&#1088;&#1072;.av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Arial"/>
              </a:rPr>
              <a:t>75</a:t>
            </a: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hapka1"/>
          <p:cNvPicPr/>
          <p:nvPr/>
        </p:nvPicPr>
        <p:blipFill>
          <a:blip r:embed="rId1"/>
          <a:stretch/>
        </p:blipFill>
        <p:spPr>
          <a:xfrm>
            <a:off x="6572160" y="927000"/>
            <a:ext cx="229716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68360" y="333360"/>
            <a:ext cx="79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55"/>
          <p:cNvPicPr/>
          <p:nvPr/>
        </p:nvPicPr>
        <p:blipFill>
          <a:blip r:embed="rId3"/>
          <a:stretch/>
        </p:blipFill>
        <p:spPr>
          <a:xfrm>
            <a:off x="179280" y="378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6" descr="Картинка 3 из 21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Картинка 71 из 215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Картинка 73 из 215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изнь – созидание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http://www.aphorism.ru/picture/20161222233004-49228.jpg"/>
          <p:cNvPicPr/>
          <p:nvPr/>
        </p:nvPicPr>
        <p:blipFill>
          <a:blip r:embed="rId1"/>
          <a:stretch/>
        </p:blipFill>
        <p:spPr>
          <a:xfrm>
            <a:off x="0" y="2276640"/>
            <a:ext cx="4716360" cy="45370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"/>
          <p:cNvSpPr/>
          <p:nvPr/>
        </p:nvSpPr>
        <p:spPr>
          <a:xfrm>
            <a:off x="4643280" y="855720"/>
            <a:ext cx="45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Спроси у жизни стро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Какой идти доро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Куда по свету бел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Отправиться с у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Иди за солнцем сле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Хоть этот путь неве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Иди, мой друг, всегда 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boto"/>
                <a:ea typeface="Times New Roman"/>
              </a:rPr>
              <a:t>Дорогою добра!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140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брестская крепос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дневника начальника Генерального штаба сухопутных войск фашистской Германии генерал-полковника Гальд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79280" y="4076640"/>
            <a:ext cx="85694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Дом</cp:lastModifiedBy>
  <dcterms:modified xsi:type="dcterms:W3CDTF">2022-04-29T18:49:10Z</dcterms:modified>
  <cp:revision>38</cp:revision>
  <dc:subject/>
  <dc:title>65-летию Победы посвящается…</dc:title>
</cp:coreProperties>
</file>