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62A-98D0-43F7-8562-BCC75F1D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7A3-7306-478A-90EC-E5C1A46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8CB-2A75-4AF0-82D5-447A0EAE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F4A-B9D5-4D26-A5F8-38F5E036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FB88-42EA-4772-9255-D82D0885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E4DB-29E5-4AFF-A1B5-0C5AF286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4266-6A40-455A-B2BD-E0F0588D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E6C3-3F39-499B-A302-BA129BE3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9D52-1C60-4717-98CD-0E906870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5F92-C44B-4544-82B5-5AC5D065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B9ED-D13C-4B61-989D-D54DB3C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9D3-C28D-431A-800B-C19FEBE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023C-1F29-41C6-8889-971A383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B19E-6FD0-4F96-BCF0-AB2D1F8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23AF-67A8-45F2-A939-70FFA9E2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16AF-7C46-426C-B527-A804C6B7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D41B-C3F1-46A4-AEC6-34F82B9F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B646-DDC5-4EE6-92C5-35A9AC8E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56D-BC08-4EDD-A99A-93C31667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9A0-A3F7-4067-B138-A69E6D47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4A0-C6E3-4D27-BC98-D1110D87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3FA-7163-4FFF-AAF5-18171B5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7F2-F002-4738-B46C-0988056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C74-1EE0-4960-8578-A366E93B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D31C-6F61-4546-986F-72709618E4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C271-E481-4149-A814-BCE1D58EC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ропорциональность отрезков хорд и секущих окружност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шите задачу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л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K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N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писаны в одну окружность. Найдите градусную меру угл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K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если угол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авен 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и точки К и Р лежа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а) в одной полуплоскости относительно прямой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) в разных полуплоскостях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относительно прямой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ешите задачу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орды окружност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ВС пересекаются. Угол АВС равен 4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, угол А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равен 7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. Найдите угол С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5694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Если хорды АВ и С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окружности пересекаются в точке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, то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А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S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Arial"/>
              </a:rPr>
              <a:t>∙ BS = CS ∙ D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523224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1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Если из точки Р к окружности проведены две секущие, пересекающие окружность в точках А, В, С,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соответственно, то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   АР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  <a:ea typeface="Arial"/>
              </a:rPr>
              <a:t>∙ ВР = СР ∙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  <a:ea typeface="Arial"/>
              </a:rPr>
              <a:t>D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  <a:ea typeface="Arial"/>
              </a:rPr>
              <a:t>Р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Хорды АВ и 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ересекаются в точке К, причем хорда АВ делится точкой К на отрезки, равные 10 см и 6 см. На какие отрезки точка К делит хорду 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если 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больше АВ на 3 с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Хорды МК и РТ пересекаются в точке А. Найдите длину АМ, если АР=2 дм, АТ=24 дм, АМ : КА = 3 :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9:19:55Z</dcterms:created>
  <dc:creator>Admin</dc:creator>
  <dc:description/>
  <dc:language>en-US</dc:language>
  <cp:lastModifiedBy>SPA</cp:lastModifiedBy>
  <dcterms:modified xsi:type="dcterms:W3CDTF">2011-10-12T13:28:53Z</dcterms:modified>
  <cp:revision>5</cp:revision>
  <dc:subject/>
  <dc:title>Пропорциональность отрезков хорд и секущих окружности</dc:title>
</cp:coreProperties>
</file>