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FDCB-5BBC-4FC2-95D7-F532B6CB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D68-423C-45B8-9007-E3CABA02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D10-FE73-4A4F-B03B-56D9E54D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C939-D8EF-41DC-9AF7-51C4522C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AFAC-D304-4977-B95D-74A9B3CD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2974-FADE-4C86-902D-2ED03888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4352-CA1C-4BFC-A2A1-D6216E9F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1199-08FF-42D5-AAD1-D8D4BC86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425A-D4D4-4240-A136-E17794B8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F4A9-C2F0-4D90-9878-A26A116C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0483-27D2-4523-A8F5-73B38F24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A0A6-78FC-4D01-BE57-CA3A8ED3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4515-5848-42A7-BFAB-98BDA7C2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BBC7-D479-4242-814B-AA9210D4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161D-F595-41FC-B4D5-FCE5A69B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11DB-D863-417B-A083-978AB96D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A60C-63B7-4782-83E5-5B4F8F3D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C443-0BE4-42FC-A048-64A48932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AB11-8C96-448D-9097-23642A27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C80-74F7-4E1A-A2EB-D54E0EDE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FB6B-6F26-4DF8-8337-32BD9F62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0981-908B-4692-9AA5-028DDBDC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F517-21CB-4E3C-94EC-00D3FB1C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12DF-43E9-4510-90B1-247A8CD4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09CF-5A0A-4556-9011-73FAE6C0E1E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456F-25B5-460D-8B99-FDDE1C31B99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одобие правильных выпуклых многоугольник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еши задачу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равильный треугольник АВС вписан в окружность с центром О и радиусом 8 см. На стороне этого треугольника построен квадрат. Определите радиус окружности, описанной около квадрат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еши задачу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коло окружности описаны квадрат и правильный шестиугольник. Найдите периметр квадрата, если периметр шестиугольника равен 48 см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Теорем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авильные выпуклые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угольники подобны. В частности, если у них стороны одинаковы, то они равн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Следствие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 правильных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-угольников отношения периметров, радиусов вписанных и радиусов описанных окружностей равн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Определите внутренний угол правильного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n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-угольника, есл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вариан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)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=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) n=2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2 вариан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)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=5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)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=12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колько сторон имеет правильный многоугольник, внутренний угол которого равен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63160" y="2205000"/>
            <a:ext cx="36162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вариан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) 140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)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62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032000" y="2205000"/>
            <a:ext cx="361764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2 вариан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) 144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) 160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колько сторон имеет правильный многоугольник, внешний угол которого равен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63160" y="2205000"/>
            <a:ext cx="36162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вариан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) 72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032000" y="2205000"/>
            <a:ext cx="361764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2 вариан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) 45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тве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вариан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f131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) 90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º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;  б) 165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f131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f131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)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=9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; б)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=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f131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f131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=5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2 вариан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f131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) 108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º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;  б) 150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f131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f131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)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=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0; б)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=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f131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f131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=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2f131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0088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1.В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кружность радиуса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=12 см вписан правильный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-угольник. Определите его сторону и периметр, есл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3429000"/>
            <a:ext cx="165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=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87640" y="3429000"/>
            <a:ext cx="165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вариан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80000" y="342900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3 вариан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0088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2.Около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окружности радиуса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r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6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см описан правильный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n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-угольник. Определите его сторону и периметр, есл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19640" y="350028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3 вариан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=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3429000"/>
            <a:ext cx="165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1вариан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43280" y="3429000"/>
            <a:ext cx="165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0088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3.Для правильного 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n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-угольника со стороной 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a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=6 см найдите радиус описанной около него окружности и радиус вписанной в него окружности, если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16360" y="3716280"/>
            <a:ext cx="165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2 вариан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=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19640" y="371628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3 вариан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716280"/>
            <a:ext cx="165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1 вариан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тве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вариан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2√3; 36√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2; 4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=6,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=3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√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ариан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2√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;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8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√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2/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√3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=4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√3;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4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√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=6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√3,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=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√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ариан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2;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2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√3;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6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√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=6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√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=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5:38:09Z</dcterms:created>
  <dc:creator>SPA</dc:creator>
  <dc:description/>
  <dc:language>en-US</dc:language>
  <cp:lastModifiedBy>SPA</cp:lastModifiedBy>
  <dcterms:modified xsi:type="dcterms:W3CDTF">2002-12-31T19:31:23Z</dcterms:modified>
  <cp:revision>6</cp:revision>
  <dc:subject/>
  <dc:title>Подобие правильных выпуклых многоугольников</dc:title>
</cp:coreProperties>
</file>